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3770-C16B-4619-85F3-23C8D2453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6EF9-493D-4BF0-B3BF-C34844E08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6A0C-34A0-41E4-B5DC-937DC4E3E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8945-D3AA-4C49-926A-0888A5AAB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F457-5D9F-42E4-A1B9-021811B92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5EE0-9D53-41AD-90C1-AE2C6D319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9DF7-FD93-4DA3-8597-EE47243A6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D864-7FDF-4440-898A-8A7536E56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F548-1FD0-4D0F-9540-CE0563019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64F5-F3F0-4CCE-901B-B10B1BA57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DA17-26D8-4BC2-AAD0-B44CD7154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22C1-1EA0-4779-8D1E-8C3648EF6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9B58-6B72-46FB-B8FE-5313499B9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8E55-BBCE-478A-9C5F-F55DB61BA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6CDB-247C-487B-BAC8-E5D2488EE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9A09-4C74-4F67-88DA-C7215598D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9E49-726B-4F74-8955-E155CC590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9A6C-016A-4F5E-AC60-9701CD638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9733-C8C5-48B6-882F-75AAE0D8A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C894-C0C3-4EDB-8800-E0D5E9FE7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B9B6-9AF8-4D7C-A264-905B9073D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FC36-245C-4F80-AB7C-F6093CEE4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1DAC-32B1-4009-A7D6-903A43768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E39D-BEBB-425B-8C06-5879A1DA1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64D2-F32E-4134-B1FC-B98DE2A70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77C5-5B61-4367-8583-8F29C0987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32B6-CB24-4CF1-ABDC-CBDAA6497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A95-E7EC-45AE-A863-89DCC29D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C99-6BF7-44A7-94D8-8C4DB6B4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18DC9-4970-4CF3-86B0-C548EF33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A7B8D-40A7-48F1-B4AB-63A73887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E5753-D78B-4FA8-86AA-1BF8257A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74D4F-B089-465A-9F63-56E5C7D5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D3794-F098-44DB-9668-1972DC0F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B4950-E766-4EA4-BD21-4D63EAD3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01EDA-E1DB-4806-A19E-7123A6DB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F6F92-3A43-4166-9CA7-CC7B7288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04405-5F84-4289-BB03-50CBBABC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D6C62-9046-40BC-8931-BC948E42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CEF0-DBB8-4246-9070-C8AB269A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6FFBB-9983-4FA4-9FE7-96C644B7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6C9BE-221F-4592-B0CD-957D978A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F9E85-96AC-4A6D-AA19-29C4352E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9E68F-2197-48F4-99F8-8E6D3C19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3A0A9-DFA4-4C70-8D75-75BFCF0B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FB36E-0412-4910-8DB5-54307C14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E2479-46ED-46C9-8F17-20380268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C3FC3-B9A5-45B7-9F08-A4AD06DC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99B85-DDA1-4EC7-B669-BD710F6A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AF63C-111A-43D1-8817-95E16D09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A078-65CF-4469-BDA0-527AD448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BEF8E-E90E-41F8-A548-231D44E4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6B933-DB5D-4D42-91A9-59801515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0F860-6798-48C4-A0C2-405DEA28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E514F-EE7C-47CD-B801-65CC78C0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08B99-81A0-434E-982E-ABC37A65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F2FC2-8F39-4493-81BB-4E07B661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AB389-7983-49E1-A675-6F8590B3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C2862-9130-4182-9AE7-9F6EEAC9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9B96E-B889-45F9-9848-8E2BE2E6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A2167-28C2-48FA-A993-D19A783A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D12A-F6E1-4968-8D76-CFC005FF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2BEA8-4E5F-4C92-A0B8-B23FAF2E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201CA-B3E0-4C78-9FB9-9D393F27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4582F-4EE5-4205-B47A-404B821B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9E1FC-1D03-4BB9-8B5D-B307C596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DEE6E-8FD3-4D7A-B5EF-08B3DDB5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114D1-0BE0-4EA0-BC69-B6F8B218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141B9-0AB6-4D7B-B1FB-5C8E3E33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C46A1-BA20-414C-B58D-3D742E0E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7DEAB-AECB-4842-9A66-33E1E498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C64B6-2258-4030-BE1F-2377004E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B5EF-3FDC-4269-9C48-F51A2AB4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BFC77-C4B0-4187-9FBE-9E17D00C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2435D-FBBD-4F5B-B728-2D4FC8C3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5C11B-C522-41D9-98E1-9AE14CCC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118CA-ED00-4558-B518-C7D2ECF0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52E26-60A2-4C77-91BC-DEA5D998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B12B-DFF0-4E06-9B13-DD02622C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2EDB-2F93-4837-8282-20D7F359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88DC-08BE-4A4C-9377-BF45A271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F40B-FE43-4F58-A597-4FFBC003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79B2-EEA5-4E2F-AEF7-F03EAE61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3985-CE84-42F9-99FB-243AC973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EDE2-DAAC-4C95-93B6-08F13886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5D0F-F8B1-44A7-A1DF-F6353723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630A-C592-4D9C-B017-E0C4C665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5BF7-0336-4D86-94B4-D76A7F4F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5EE0-3192-443F-8E08-D2B6D6C7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DD69F-731E-44BD-922D-8A78CB64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339D7-7BDD-4B0C-B781-8DC36234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5BD1C-B6DD-4007-B3D7-58B6B9E2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394C9-888C-4D73-8920-3FB6AF8B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9A082-BAA1-4765-BB71-231CC3FB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570F-E118-4CC3-8ED0-3F8D6692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B84BA-DCD6-447B-A720-474234C5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437C9-8534-4414-8A53-7C81B604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EA88A-41B5-4F5F-952A-0FC27C02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9D17E-DCB3-449A-B55C-EBAB11AE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3D117-359F-400F-8905-541E5A84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B85AC-FEBE-40F9-B075-9D7C36BF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DEBFB-F256-4A6D-B7CB-3279FBAA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D7951-0675-4DB0-81A6-DD8C6CC7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A7324-FC24-49BF-9420-6891F5B2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B90E2-EDA4-41DF-A093-58945C21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535E-4B37-4940-AA5B-ECF86DEF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3D6BB-8D2B-4E7D-8412-E9402DD0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E5315-CB5B-4D37-9CAD-4FC4BD3D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7B10B-890A-4247-8608-2DEFA312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3E262-6326-476F-B6B2-C847FDD6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A6152-9DAE-487A-A408-B1C1FE36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90B8E-9416-4385-875A-E1F5DC92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AF847-EF01-41D2-86AD-B330A2B1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17633-65DD-4005-955A-47462E89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9A3A2-96A2-4952-AB25-3D98B011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32125-8042-4F6D-B859-894EAF3E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2169-354D-4B2F-8C9A-4A12C097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6ACCC-6BC3-40C9-BE80-9894FBD6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4031B-B13A-4A9D-BCED-D95D4D74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634BA-9B21-48D5-9DE1-BB3666EE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34E97-C466-4703-8A38-06630B20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D44DF-6706-4D27-BAF9-B0171B40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C4E82-8F92-48AB-B95B-9321C39C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245DA-8332-4867-91EE-C29B2599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D6231-276C-47A6-B2C4-62296FE7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C4869-4967-49EF-AE9C-08D20AE7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4D9D2-28D6-474C-82BD-071EB615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CE0A-C91F-4B61-9D5C-1CB57410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DC276-DE55-4F71-A9DB-4EBAA0E6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2B631-28F7-4284-A421-91F74753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ED227-2B5C-4B4A-82EB-7288D6C7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B88B4-EC9E-4826-A789-76B009FF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7153A-E652-49C3-B311-006F2E7D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3C7CE-30CB-4FE4-85BB-09846AB6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24A3B-97A3-4159-BBEA-9743A761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23F09-177D-4F2C-9DA0-F384B330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8FBB6-22DF-4965-B760-BDECDE3B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45F70-7B34-47BB-A6B2-980C61FA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7C0-5E22-44D6-ACF7-07C1B3B4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BC262-ABCA-4C1C-996F-E39738B7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0DEF1-A512-462F-A3F5-66FB22A2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5450D-81C2-4D4D-AB98-83C6FAB0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F0F72-40E6-4351-800B-1A6B3FD7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F9463-EEE7-40C1-A4CC-21E5E327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42DBD-8AA3-4311-8A27-F799D702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BDC8A-53D1-45AE-A18F-773EB179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4DD21-2702-4F86-ABF5-B41FE0C7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EEB9F-B431-4929-8755-8B4005ED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8FC56-C00D-4A09-BCEF-6752DADF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84F-26F8-4B12-8B87-6A419A08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2CEE4-6FF3-418E-8104-7BAAF24D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E8638-9E31-49DF-94A5-894D97DD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F24FF-DD4B-4981-B72E-F44902FD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E6B34-8B27-46F8-B242-F6FA484A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D3D71-8C48-4E79-AB38-DBA22DAA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8F520-BCF6-4FD1-B297-F47D22D2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49A74-87BC-497A-AC51-93757210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64950-D8D9-4597-95E1-FD205223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29557-8C8B-4373-9A41-DF875847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5D5EE-FA1A-4163-93AD-27DE3A13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3DAB-56B8-494A-95E2-0C421D0B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F3600-7121-450A-B038-AB888642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8721A-898B-4CA4-BE2D-187A6F82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9A1ED-B375-4D4F-80D5-C0747F50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D04B4-DC0D-4364-9E3D-F8408CA3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584B1-3E48-4C61-93CB-75141979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829A8-2B9E-4F92-B328-FA1028B4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FB068-847A-40FB-8331-20B72E65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0C290-BA5A-49D3-8FA5-83873D12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2E25F-9543-4941-A5B5-C32F7D15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30188-B4DC-462B-B5BA-CC26E091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BB45-7D19-4021-A75D-B57535D0B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4900-4926-499C-BC24-0F4D339E1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9E03-B854-43E4-A0F9-E77437425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BA49-CCEA-4B0D-8DA1-F943765FD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EC19-AC4F-4CE7-8B0D-623D92096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77F7-BC05-430F-9F49-0264A019B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E2D0-D438-4305-8CB6-C7626E572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7C25-A9F8-4481-8FCF-E09E4A62D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2F70-7758-4ADC-B9C3-7479362A8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6EA6-6FAD-48AE-A890-CCDA8350A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DEC8-8C59-440B-A039-E44ADA114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78D4-A4F6-467E-BFE8-F5A95F802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ii.org/" TargetMode="External"/><Relationship Id="rId3" Type="http://schemas.openxmlformats.org/officeDocument/2006/relationships/hyperlink" Target="http://infomine.ucr.edu/" TargetMode="External"/><Relationship Id="rId4" Type="http://schemas.openxmlformats.org/officeDocument/2006/relationships/hyperlink" Target="http://www.academicinfo.us/" TargetMode="External"/><Relationship Id="rId5" Type="http://schemas.openxmlformats.org/officeDocument/2006/relationships/hyperlink" Target="http://dir.yahoo.com/" TargetMode="External"/><Relationship Id="rId6" Type="http://schemas.openxmlformats.org/officeDocument/2006/relationships/hyperlink" Target="http://directory.google.com/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.archive.org/web/20041012180151/pubweb.northwestern.edu/~abutz/di/intro.html" TargetMode="External"/><Relationship Id="rId3" Type="http://schemas.openxmlformats.org/officeDocument/2006/relationships/hyperlink" Target="http://www.seas.upenn.edu/~udani/personals.html" TargetMode="External"/><Relationship Id="rId4" Type="http://schemas.openxmlformats.org/officeDocument/2006/relationships/hyperlink" Target="http://pages.yahoo.com/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egis.edu/library.htm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" TargetMode="External"/><Relationship Id="rId3" Type="http://schemas.openxmlformats.org/officeDocument/2006/relationships/hyperlink" Target="http://scholar.google.com/" TargetMode="External"/><Relationship Id="rId4" Type="http://schemas.openxmlformats.org/officeDocument/2006/relationships/hyperlink" Target="http://www.clusty.com/" TargetMode="External"/><Relationship Id="rId5" Type="http://schemas.openxmlformats.org/officeDocument/2006/relationships/hyperlink" Target="http://ask.com/" TargetMode="External"/><Relationship Id="rId6" Type="http://schemas.openxmlformats.org/officeDocument/2006/relationships/hyperlink" Target="http://search.yahoo.com/" TargetMode="External"/><Relationship Id="rId7" Type="http://schemas.openxmlformats.org/officeDocument/2006/relationships/hyperlink" Target="http://prospector.coalliance.org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ternettutorials.net/started.html" TargetMode="External"/><Relationship Id="rId3" Type="http://schemas.openxmlformats.org/officeDocument/2006/relationships/hyperlink" Target="http://www.cyward.com/speciali.htm" TargetMode="External"/><Relationship Id="rId4" Type="http://schemas.openxmlformats.org/officeDocument/2006/relationships/hyperlink" Target="http://webquest.sdsu.edu/searching/specialized.html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asywhois.com/" TargetMode="External"/><Relationship Id="rId3" Type="http://schemas.openxmlformats.org/officeDocument/2006/relationships/hyperlink" Target="http://www.martinlutherking.org/" TargetMode="External"/><Relationship Id="rId4" Type="http://schemas.openxmlformats.org/officeDocument/2006/relationships/hyperlink" Target="http://www.harrypotter.com/" TargetMode="External"/><Relationship Id="rId5" Type="http://schemas.openxmlformats.org/officeDocument/2006/relationships/hyperlink" Target="http://www.globalwarming.org/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chive.org/web/web.ph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2.sims.berkeley.edu/research/projects/how-much-info-2003/execsum.htm" TargetMode="Externa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54104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00040"/>
                </a:solidFill>
                <a:latin typeface="Arial Rounded MT Bold"/>
              </a:rPr>
              <a:t>Effective Resear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5" descr="Research_graphic"/>
          <p:cNvPicPr/>
          <p:nvPr/>
        </p:nvPicPr>
        <p:blipFill>
          <a:blip r:embed="rId2"/>
          <a:stretch/>
        </p:blipFill>
        <p:spPr>
          <a:xfrm>
            <a:off x="4114800" y="228600"/>
            <a:ext cx="502920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Task / T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questions do you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do you know alrea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do you need to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type of information is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Research_graphic"/>
          <p:cNvPicPr/>
          <p:nvPr/>
        </p:nvPicPr>
        <p:blipFill>
          <a:blip r:embed="rId2"/>
          <a:stretch/>
        </p:blipFill>
        <p:spPr>
          <a:xfrm>
            <a:off x="0" y="228600"/>
            <a:ext cx="2438280" cy="21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earch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dentify keywords &amp; ph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ouns &amp; 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4 – 6 words for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se thes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se View option in the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sing advanc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sing + or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Research_graphic"/>
          <p:cNvPicPr/>
          <p:nvPr/>
        </p:nvPicPr>
        <p:blipFill>
          <a:blip r:embed="rId2"/>
          <a:stretch/>
        </p:blipFill>
        <p:spPr>
          <a:xfrm>
            <a:off x="152280" y="304920"/>
            <a:ext cx="1828800" cy="165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ubject Directories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Librarians’ Index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li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fomine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infomine.ucr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cademic Info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academicinfo.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Yahoo Directory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dir.yahoo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ogle Directory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ttp://directory.goog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Research_graphic"/>
          <p:cNvPicPr/>
          <p:nvPr/>
        </p:nvPicPr>
        <p:blipFill>
          <a:blip r:embed="rId7"/>
          <a:stretch/>
        </p:blipFill>
        <p:spPr>
          <a:xfrm>
            <a:off x="152280" y="380880"/>
            <a:ext cx="1676520" cy="14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361960" y="9140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Locating and Accessing th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Locate th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nd the information within th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valuate the accuracy of th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Research_graphic"/>
          <p:cNvPicPr/>
          <p:nvPr/>
        </p:nvPicPr>
        <p:blipFill>
          <a:blip r:embed="rId2"/>
          <a:stretch/>
        </p:blipFill>
        <p:spPr>
          <a:xfrm>
            <a:off x="685800" y="533520"/>
            <a:ext cx="2362320" cy="20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edu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ducational organization (most US univers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k12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US school site (not all US schools use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ac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cademic institution (outside of 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sch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chool site (outside of the 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com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mpany (usually .co in the U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org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y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gov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vernment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net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mil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ilitary i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w extensions to look for are .biz, .name, .pro, .info. All are used for commercial purpo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Research_graphic"/>
          <p:cNvPicPr/>
          <p:nvPr/>
        </p:nvPicPr>
        <p:blipFill>
          <a:blip r:embed="rId2"/>
          <a:stretch/>
        </p:blipFill>
        <p:spPr>
          <a:xfrm>
            <a:off x="457200" y="380880"/>
            <a:ext cx="1790640" cy="15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Personal sites (~)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pubweb.northwestern.edu/~abutz/di/intro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is site is a Holocaust Revisionist site that argues that the Holocaust did not take place.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seas.upenn.edu/~udani/personal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ntains links to free personal/singles 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eocitie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pages.yahoo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028" descr="Research_graphic"/>
          <p:cNvPicPr/>
          <p:nvPr/>
        </p:nvPicPr>
        <p:blipFill>
          <a:blip r:embed="rId5"/>
          <a:stretch/>
        </p:blipFill>
        <p:spPr>
          <a:xfrm>
            <a:off x="6819840" y="4856040"/>
            <a:ext cx="2324160" cy="200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Regis On-line Library &amp; Databas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371240" y="2895480"/>
            <a:ext cx="6553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regis.edu/library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4" descr="Research_graphic"/>
          <p:cNvPicPr/>
          <p:nvPr/>
        </p:nvPicPr>
        <p:blipFill>
          <a:blip r:embed="rId3"/>
          <a:stretch/>
        </p:blipFill>
        <p:spPr>
          <a:xfrm>
            <a:off x="5943600" y="4087800"/>
            <a:ext cx="2933640" cy="25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Other Search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o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goog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ogle Scho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scholar.googl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lus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clust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ask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Yahoo 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ttp://search.yaho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arch Prosp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http://prospector.coalliance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Research_graphic"/>
          <p:cNvPicPr/>
          <p:nvPr/>
        </p:nvPicPr>
        <p:blipFill>
          <a:blip r:embed="rId8"/>
          <a:stretch/>
        </p:blipFill>
        <p:spPr>
          <a:xfrm>
            <a:off x="7162920" y="5181480"/>
            <a:ext cx="1714320" cy="14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till Not S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nternet Tutori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internettutorials.net/starte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yward Internet Education: Search Engines &amp; Specialized 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cyward.com/speciali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pecialized Search Engines &amp; Direct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ebquest.sdsu.edu/searching/specialize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Research_graphic"/>
          <p:cNvPicPr/>
          <p:nvPr/>
        </p:nvPicPr>
        <p:blipFill>
          <a:blip r:embed="rId5"/>
          <a:stretch/>
        </p:blipFill>
        <p:spPr>
          <a:xfrm>
            <a:off x="6781680" y="762120"/>
            <a:ext cx="2019600" cy="17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-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Who owns the site?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easywhoi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martinlutherking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torm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harrypotter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www.globalwarming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ational Consumer Coal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Research_graphic"/>
          <p:cNvPicPr/>
          <p:nvPr/>
        </p:nvPicPr>
        <p:blipFill>
          <a:blip r:embed="rId6"/>
          <a:stretch/>
        </p:blipFill>
        <p:spPr>
          <a:xfrm>
            <a:off x="6172200" y="304920"/>
            <a:ext cx="2666880" cy="22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Why is it import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nternet is becoming #1 source fo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vailable information growing exponenti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eed to teach students how to research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eed to be able to determine qualit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4" descr="Research_graphic"/>
          <p:cNvPicPr/>
          <p:nvPr/>
        </p:nvPicPr>
        <p:blipFill>
          <a:blip r:embed="rId2"/>
          <a:stretch/>
        </p:blipFill>
        <p:spPr>
          <a:xfrm>
            <a:off x="152280" y="380880"/>
            <a:ext cx="1486080" cy="1279800"/>
          </a:xfrm>
          <a:prstGeom prst="rect">
            <a:avLst/>
          </a:prstGeom>
          <a:ln w="0">
            <a:noFill/>
          </a:ln>
        </p:spPr>
      </p:pic>
      <p:sp>
        <p:nvSpPr>
          <p:cNvPr id="504" name="AutoShape 6">
            <a:hlinkClick r:id="rId3" action="ppaction://hlinksldjump"/>
          </p:cNvPr>
          <p:cNvSpPr/>
          <p:nvPr/>
        </p:nvSpPr>
        <p:spPr>
          <a:xfrm>
            <a:off x="914400" y="3124080"/>
            <a:ext cx="5486400" cy="914400"/>
          </a:xfrm>
          <a:custGeom>
            <a:avLst/>
            <a:gdLst>
              <a:gd name="textAreaLeft" fmla="*/ 59040 w 5486400"/>
              <a:gd name="textAreaRight" fmla="*/ 5427360 w 5486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9557" h="21600">
                <a:moveTo>
                  <a:pt x="0" y="0"/>
                </a:moveTo>
                <a:lnTo>
                  <a:pt x="129557" y="0"/>
                </a:lnTo>
                <a:lnTo>
                  <a:pt x="129557" y="21600"/>
                </a:lnTo>
                <a:lnTo>
                  <a:pt x="0" y="21600"/>
                </a:lnTo>
                <a:close/>
              </a:path>
              <a:path fill="lightenLess" w="129557" h="21600">
                <a:moveTo>
                  <a:pt x="0" y="0"/>
                </a:moveTo>
                <a:lnTo>
                  <a:pt x="129557" y="0"/>
                </a:lnTo>
                <a:lnTo>
                  <a:pt x="128158" y="1400"/>
                </a:lnTo>
                <a:lnTo>
                  <a:pt x="1400" y="1400"/>
                </a:lnTo>
                <a:close/>
              </a:path>
              <a:path fill="darken" w="129557" h="21600">
                <a:moveTo>
                  <a:pt x="129557" y="0"/>
                </a:moveTo>
                <a:lnTo>
                  <a:pt x="129557" y="21600"/>
                </a:lnTo>
                <a:lnTo>
                  <a:pt x="128158" y="20200"/>
                </a:lnTo>
                <a:lnTo>
                  <a:pt x="128158" y="1400"/>
                </a:lnTo>
                <a:close/>
              </a:path>
              <a:path fill="darkenLess" w="129557" h="21600">
                <a:moveTo>
                  <a:pt x="129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58" y="20200"/>
                </a:lnTo>
                <a:close/>
              </a:path>
              <a:path fill="lighten" w="129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7">
            <a:hlinkClick r:id="rId4" action="ppaction://hlinksldjump"/>
          </p:cNvPr>
          <p:cNvSpPr/>
          <p:nvPr/>
        </p:nvSpPr>
        <p:spPr>
          <a:xfrm>
            <a:off x="7772400" y="647712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History of a Site</a:t>
            </a: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371240" y="236232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archive.org/web/web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Research_graphic"/>
          <p:cNvPicPr/>
          <p:nvPr/>
        </p:nvPicPr>
        <p:blipFill>
          <a:blip r:embed="rId3"/>
          <a:stretch/>
        </p:blipFill>
        <p:spPr>
          <a:xfrm>
            <a:off x="6095880" y="4114800"/>
            <a:ext cx="2781360" cy="23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Using the Information</a:t>
            </a:r>
            <a:br>
              <a:rPr sz="4400"/>
            </a:b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(note tak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257440" y="2514600"/>
            <a:ext cx="2971800" cy="3733920"/>
          </a:xfrm>
          <a:prstGeom prst="rect">
            <a:avLst/>
          </a:prstGeom>
          <a:noFill/>
          <a:ln w="57240">
            <a:solidFill>
              <a:srgbClr val="80004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ote c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ut-&amp;-P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lor co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3 column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rnell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teractive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838080" y="2286000"/>
            <a:ext cx="3505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nking too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ased on the source, purpose and us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itations document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6" descr="Research_graphic"/>
          <p:cNvPicPr/>
          <p:nvPr/>
        </p:nvPicPr>
        <p:blipFill>
          <a:blip r:embed="rId2"/>
          <a:stretch/>
        </p:blipFill>
        <p:spPr>
          <a:xfrm>
            <a:off x="6477120" y="228600"/>
            <a:ext cx="22860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APA Format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8762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gis site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regis.edu/content/lib/pdf/lib.handouts.APAcitationstyle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Purdue On-line Writing Lab (OWL)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owl.english.purdue.edu/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oodletools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noodletool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on of Citation Machine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http://citationmachine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" descr="Research_graphic"/>
          <p:cNvPicPr/>
          <p:nvPr/>
        </p:nvPicPr>
        <p:blipFill>
          <a:blip r:embed="rId2"/>
          <a:stretch/>
        </p:blipFill>
        <p:spPr>
          <a:xfrm>
            <a:off x="228600" y="228600"/>
            <a:ext cx="22860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809520" y="2514600"/>
            <a:ext cx="49532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lide Show / Mov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raphics a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4" descr="Research_graphic"/>
          <p:cNvPicPr/>
          <p:nvPr/>
        </p:nvPicPr>
        <p:blipFill>
          <a:blip r:embed="rId2"/>
          <a:stretch/>
        </p:blipFill>
        <p:spPr>
          <a:xfrm>
            <a:off x="685800" y="2209680"/>
            <a:ext cx="2895480" cy="24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ow do you feel about your pro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rammar, spelling, 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lf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eer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Rubric -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id project answer the tas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urniti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turnitin.com/static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4" descr="Research_graphic"/>
          <p:cNvPicPr/>
          <p:nvPr/>
        </p:nvPicPr>
        <p:blipFill>
          <a:blip r:embed="rId2"/>
          <a:stretch/>
        </p:blipFill>
        <p:spPr>
          <a:xfrm>
            <a:off x="6400800" y="228600"/>
            <a:ext cx="2590920" cy="223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44000" indent="-1440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d you respect intellectual proper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o you have a bibliography with diverse sour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d you use in-text citations when paraphra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d you collaborate effectively with oth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pyright Law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benedict.com/Info/Info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tiquette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albion.com/netiquett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Research_graphic"/>
          <p:cNvPicPr/>
          <p:nvPr/>
        </p:nvPicPr>
        <p:blipFill>
          <a:blip r:embed="rId2"/>
          <a:stretch/>
        </p:blipFill>
        <p:spPr>
          <a:xfrm>
            <a:off x="6705720" y="4800600"/>
            <a:ext cx="22096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ning, A. B. (2006, October 16). An Introduction:Big6 Information Problem Solving with Technology.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Big6 Over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trieved March 13, 2007, from Big6 Associates Web site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big6.com/showarticle.php?id=1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hen, L. (2007, February 7). Checklist of Internet Research Tips.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ternet Tutoria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trieved March 15, 2007, from University at Albany, SUNY Web site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internettutorials.net/checklis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hen, L. (2007, March 9). Search Engines.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ternet Tutoria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trieved March 15, 2007, from University at Albany, SUNY Web site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internettutorials.net/engin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senberg, M., &amp; Berkowitz, B. (2007, March 12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Big 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trieved March 13, 2007, from Big6 Associates Web site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big6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odletools. (2004, July 7). (APA) How do I write an APA parenthetical (in-text) reference? [Knowledge Base: Article 52]. Message posted to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noodletools.com/kb/index.php?article=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Consider th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3"/>
          <p:cNvSpPr/>
          <p:nvPr/>
        </p:nvSpPr>
        <p:spPr>
          <a:xfrm>
            <a:off x="609480" y="1905120"/>
            <a:ext cx="815364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 Engine Results: 2,690,000 h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could examine each site in 5 minutes, in order to complete this research (without stopping for food or rest) it would take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4,167   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r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9,343   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r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1,334   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r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25.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lculated by Fr. Don Highberger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gis University For Professional Studi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munications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40"/>
                </a:solidFill>
                <a:latin typeface="Arial Rounded MT Bold"/>
              </a:rPr>
              <a:t>Informa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4000" spc="-1" strike="noStrike">
                <a:solidFill>
                  <a:srgbClr val="800040"/>
                </a:solidFill>
                <a:latin typeface="Arial Rounded MT Bold"/>
              </a:rPr>
              <a:t>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nformation stored on paper, film, optical, and magnetic  media totals about 5 EB of new information each yea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w information communicated through electronic information flows - telephone, radio, TV, and the Internet is about 17.7 EB each ye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Volume of information on the public Web at 20 to 50 TB in 2002, ... In 2003 - 167 T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2.sims.berkeley.edu/research/projects/how-much-info-2003/execsum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>
            <a:hlinkClick r:id="rId3" action="ppaction://hlinksldjump"/>
          </p:cNvPr>
          <p:cNvSpPr/>
          <p:nvPr/>
        </p:nvSpPr>
        <p:spPr>
          <a:xfrm>
            <a:off x="7924680" y="6553080"/>
            <a:ext cx="1219320" cy="304920"/>
          </a:xfrm>
          <a:custGeom>
            <a:avLst/>
            <a:gdLst>
              <a:gd name="textAreaLeft" fmla="*/ 19440 w 1219320"/>
              <a:gd name="textAreaRight" fmla="*/ 1199880 w 1219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7">
            <a:hlinkClick r:id="rId4" action="ppaction://hlinksldjump"/>
          </p:cNvPr>
          <p:cNvSpPr/>
          <p:nvPr/>
        </p:nvSpPr>
        <p:spPr>
          <a:xfrm>
            <a:off x="0" y="6553080"/>
            <a:ext cx="1219320" cy="304920"/>
          </a:xfrm>
          <a:custGeom>
            <a:avLst/>
            <a:gdLst>
              <a:gd name="textAreaLeft" fmla="*/ 19440 w 1219320"/>
              <a:gd name="textAreaRight" fmla="*/ 1199880 w 1219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4" descr="HowBig"/>
          <p:cNvPicPr/>
          <p:nvPr/>
        </p:nvPicPr>
        <p:blipFill>
          <a:blip r:embed="rId2"/>
          <a:stretch/>
        </p:blipFill>
        <p:spPr>
          <a:xfrm>
            <a:off x="-2286000" y="-1371600"/>
            <a:ext cx="14046120" cy="1064268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5">
            <a:hlinkClick r:id="" action="ppaction://hlinkshowjump?jump=previousslide"/>
          </p:cNvPr>
          <p:cNvSpPr/>
          <p:nvPr/>
        </p:nvSpPr>
        <p:spPr>
          <a:xfrm>
            <a:off x="8077320" y="64771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earch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39621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gis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-Search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Big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Research_graphic"/>
          <p:cNvPicPr/>
          <p:nvPr/>
        </p:nvPicPr>
        <p:blipFill>
          <a:blip r:embed="rId2"/>
          <a:stretch/>
        </p:blipFill>
        <p:spPr>
          <a:xfrm>
            <a:off x="5257800" y="2362320"/>
            <a:ext cx="293364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Regis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Getting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Effective search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nding books and other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nding periodical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ritically evaluat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Research_graphic"/>
          <p:cNvPicPr/>
          <p:nvPr/>
        </p:nvPicPr>
        <p:blipFill>
          <a:blip r:embed="rId2"/>
          <a:stretch/>
        </p:blipFill>
        <p:spPr>
          <a:xfrm>
            <a:off x="7010280" y="304920"/>
            <a:ext cx="1866960" cy="16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I-Search Model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(Ken Macror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quiry-based research process to actively involv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4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mmersion in a topic and generating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veloping a search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athering &amp; integra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resent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Research_graphic"/>
          <p:cNvPicPr/>
          <p:nvPr/>
        </p:nvPicPr>
        <p:blipFill>
          <a:blip r:embed="rId2"/>
          <a:stretch/>
        </p:blipFill>
        <p:spPr>
          <a:xfrm>
            <a:off x="7010280" y="228600"/>
            <a:ext cx="1866960" cy="160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The Big 6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(Mike Eisenberg &amp; Bob Berkowit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6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ask Defin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formation Seek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Location &amp;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se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ot necessary to complete these steps in linear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1028" descr="Research_graphic"/>
          <p:cNvPicPr/>
          <p:nvPr/>
        </p:nvPicPr>
        <p:blipFill>
          <a:blip r:embed="rId2"/>
          <a:stretch/>
        </p:blipFill>
        <p:spPr>
          <a:xfrm>
            <a:off x="6934320" y="304920"/>
            <a:ext cx="2019240" cy="17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00:32:10Z</dcterms:created>
  <dc:creator>B Rogers</dc:creator>
  <dc:description/>
  <dc:language>en-US</dc:language>
  <cp:lastModifiedBy>B Rogers</cp:lastModifiedBy>
  <cp:lastPrinted>2008-05-02T16:11:16Z</cp:lastPrinted>
  <dcterms:modified xsi:type="dcterms:W3CDTF">2010-01-16T15:16:45Z</dcterms:modified>
  <cp:revision>35</cp:revision>
  <dc:subject/>
  <dc:title>Effective Research</dc:title>
</cp:coreProperties>
</file>