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BC5C-DF83-4447-AA05-BBADFB793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1C8B-575A-4554-BB0B-F5204C202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7085-B77D-4633-AC97-15233299F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08A7-FF0A-46FE-9583-258BEBC63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4707-DAA7-454C-B0EA-CC43757D4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701B-8CEF-4077-AED3-C6B0DAA3F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1EAC-45AF-4848-AACC-937F34EB8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95C5-0F9E-4F5F-938A-8C7D06D9F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1857-A8D4-41E1-908E-09AE452E0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E711-D8FF-43A0-82C4-D52231CA0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BE07-ADDD-447D-8E0F-7AAC16F69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22E8-89F2-4F89-A0E5-9EF078746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7B1D-A0F7-4568-95B9-3E96EFBF9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006D-ACA8-44BA-96E3-BE3114B8C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84B3-9873-4D6B-AA20-CA9725BD9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036B-048E-4DD0-87F8-521837356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6A93-8999-4B67-AE11-021235C32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880A-CC39-46EC-8C20-C73220D49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8295-35F0-4875-A0F9-2884BB27A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6EA0-28BF-4D33-9355-ABEB67E0D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5A51-B7E3-4F7A-9A50-1D3ED60AF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25B9-B7E5-4633-8024-F7DC93AA0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3619-3270-4535-914B-7D9F00B0D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E4B6-2665-43F9-AD03-CCC8D4194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3493-4F1D-4204-960D-FF03384B5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FEAB-C646-4FE4-AE1A-916888CA9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D4F7-ADF8-4CEF-92CC-5988C9EE2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677-3A01-404E-B836-D155F074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07F-A6C6-4F25-8B8B-F3DD2A7B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203DF-BA5A-41BD-8757-EBB52A58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0335A-5346-4002-8A7F-6588CEAD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8E047-E792-46F6-B22F-7666CB5F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87536-E4A8-4AAE-ADCE-69799FA2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C52AD-BE9C-4918-A9C5-EA615565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D0AC0-3376-4337-A38C-D8565F66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96087-72BE-4311-A25A-80D6D547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0199B-AEA0-49D0-9528-529624D2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8BDEB-C36E-4C9C-A371-E0F201F0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8E6A9-913F-43CC-BCAD-57B5C18C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9ACD-0489-4B7A-A783-204F2B89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C4EDC-57F1-4937-857E-5DEC3222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11830-BE7D-469E-810C-88F008B9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B5215-B20D-43E5-AEF4-2B965839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064FA-F61E-40F9-A2D6-815C0610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08FD5-511E-447E-ACB3-8B7A0CF3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6EDE9-9907-46EE-ACE5-04B2340A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74254-EC97-4924-BEDB-A6A0E840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86FB4-4DBB-4A9C-9614-8E774261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1488C-66BA-4594-9291-6F171404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EBCD3-E155-4B1D-85BE-939449C9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27D-7240-4DB4-AF38-6DBF6559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7F003-E388-4F07-AF54-117469B3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78DE6-0E79-4155-958A-13AA1FCD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0ABDF-3A29-4959-9A90-E2405A04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7E6D4-5600-4E53-8476-DCB35062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6C11C-E9A3-41E3-B01C-5C418F12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A0DA0-5CD7-4D19-BF8B-5C2BBD4B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F2E70-45ED-4D8F-83CC-AFE38B72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F590D-C2CE-44DC-8156-717E032A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765FE-28D1-4201-9E14-114C1A9B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C776F-76CA-4FC8-B7B0-EFC9C813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85E9-A742-4DF8-BF2D-84802233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848A2-D216-4CBE-A879-57D0B0C0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CD6F1-6E23-45B5-AA82-E529AA17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AD489-B4A2-4E2C-A527-25D42404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5547D-0C65-48C5-A437-9F7C0738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54672-7BEA-4C84-97DB-5453507F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88EB3-684D-42BF-980F-8A54E61E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4E250-4E79-44FC-88ED-D5B4FF5C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F45FD-78CD-4247-945C-8BF3A31E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E73AA-685E-45EC-81A1-285095E0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3688C-67B0-4A55-94C7-680D6F5C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783E-D6B9-4315-ABDB-BD59794F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A0596-D099-4D36-9F2A-27308703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C2C4B-0137-4998-A433-7BDD405F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95DB3-C888-4477-8A59-2B1C51BA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0D8F6-AAD7-4570-89BC-C6876062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A49E9-976E-47BF-94F6-1B6BF312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3E8B-6EC4-485E-8DCE-8E06EA2F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48FF-12A0-4255-93BC-E0CE5465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E409-AFC6-414E-B252-B6537A6F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0807-BB8C-4D3B-876B-EF8D2A79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DC29-74CB-4AD9-BF53-CE4C947A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3E7-C3E6-4395-9D11-2623B574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7B07-E566-4C9A-88DE-3F7EC4D7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6A4E-CD1C-4486-8502-ABDB1121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E8C9-FABD-49DD-84B0-22ECE02F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B78C-A172-4FDD-AF49-529AB221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6280-A6ED-4910-BE8A-781769F4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BA2C-CBB2-4264-B2F7-A72A1C00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16742-CEE2-4BD8-87E8-0129EA06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56EDD-3DF3-4C88-AE12-EFD2ED47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1E8E8-6215-43A7-B7EA-3E853F97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07BDB-9AD8-4E28-9731-F5C412F8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E53-1ED6-4A43-ABCA-8AA0B816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96DE5-7232-413A-8F0E-B8A51950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F1F8D-E57E-4CAA-8552-B00B7DE2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5B3F9-23C7-4184-87D1-9C3D10D4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AB1CA-95C5-477C-9A6B-2ECFF4DB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F2DDF-7368-4E79-8497-0ACB5FA4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20FFE-5FE8-4982-A012-3F7BEB2D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97DA2-5549-4622-A965-93338C0A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A2056-8BDA-4017-961E-BF8740AB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1D7FA-EB51-4194-BDF4-A5C52033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054E9-405D-4794-AF7A-3D6A2585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18C-A587-4828-BDD5-7B56842A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D3A41-3CDE-4DE8-9D07-40290B1A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6C341-3985-4316-B064-BB4CDE4C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E40A6-C38F-4733-AB22-4768F8C7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A3F7C-62D9-464D-9D6E-47C959E1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05310-A3BF-4D75-9739-C4458836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B1A5A-EE41-4906-9095-C7B68F16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B0712-8D33-49AD-983F-18AE1CAC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134DE-D9EF-496C-B4E7-908B0938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6617A-81FC-4EBB-9DB4-62FCF048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F0089-3C99-4D6C-9950-F63E8943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8BD-9D18-460A-B0DE-EDC97D03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5D6C8-655E-4B24-8743-52BF4FD4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37BAF-7B8A-4832-90BB-971326E2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A7C1E-AC26-4107-A125-414C6F98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76CBD-2130-497B-8636-CFB45289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665D8-DBB1-4DE0-8C79-B0358F0A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01479-8531-4F2A-9E2F-50FA4EF2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A94DE-A034-4866-AD49-55A30CED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E8F17-A28B-47F9-A153-4EC4C5A7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B8183-6DD7-4F35-B59D-F816C4E6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214AB-FCC6-465C-B3B7-D37E4BB8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41E-14E7-4E53-839B-09DA4E07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1DB49-FD78-478E-873A-E66F94FB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3DE2F-77EB-47D7-BD06-29D1B41E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DA951-3C98-428A-AC7A-62245E9D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19DAC-DA70-4064-88F7-494B6811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6057B-D12E-4489-9C5A-3F04D0FC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01DBE-A9D9-4EDB-A53C-4FE8D91C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E3761-A70F-407F-8DED-750BE9D4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004FB-DCCD-4D29-A214-5911D52A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68DB3-BF65-48CA-9AB2-B95260AB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485BF-C406-428F-9BE4-3D1DDC96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0708-2113-4BEC-8C7B-4277A70D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C64BC-697C-40FB-82D9-8B5C197A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4B79D-47C6-4ABB-A069-A68B149E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2E345-5A2B-49D1-88D8-A7D9D67B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F4D6A-53F5-49E5-94B7-C7343AF4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CB328-4AC3-48C3-B4A9-D5B69F4F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4255A-2030-4A03-879A-3306387B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9A5CE-848B-4300-BB29-2D259927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985CE-A1CB-4C2E-8B1B-2ECB91C6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B6BC3-7C17-4AE0-859C-3738186B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CDF8C-5A78-402F-82DA-690A9E1D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E3C-240C-44B6-89AE-CB4F571A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516F9-1335-4D88-9771-DBA384EF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C897C-939C-47A2-B355-09347BE1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654FC-812D-4508-B2E1-4269AB18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4DC41-DE0A-4032-9803-9ABCD452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0F6A8-5588-4E48-9527-A2296E59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6E3A2-4443-48A2-8A37-18315F5E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7C90B-976B-4A1D-A367-E293F583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1A3A0-2D78-40FC-8758-E958F69D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6631F-D393-41FA-AD98-048A2B2C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AAF59-446E-4540-9A60-FBB5EFE6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339-213E-4E5A-A6B4-2EE334F7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7DDC9-7668-433E-A047-D2B99368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73EA7-79EC-4E33-B249-8BBE200B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86BCF-CD4A-4A19-A953-1AF35689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51F3A-6DD1-4F46-A636-E49547FA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C2151-02A1-478A-9B21-38250D31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EE5F5-29B8-4995-B06E-BC660CB4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621EF-B57A-4FEC-94A7-816F7785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75FC3-6A2D-4BD3-99D7-E20679F5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FEC0D-A647-4F66-AB43-1BA95654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96261-30D9-4D5A-BE54-064B826F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2D5E-3FAA-4EFA-8373-821B2151A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E88E-1873-474B-BF94-F7B1CF55A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C6A0-06AC-47A5-87FC-206AE57F2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F987-7321-4B67-B1BF-CBF7EDDAB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77AA-F5AD-4BF1-BFAF-1DF3302F4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11D3-27FD-4095-BC54-102E2D061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045D-3A98-4079-9A12-CA4DF2275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40B0-AEE8-4EA7-9F6A-179E24197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F6A3-BB75-42E0-931C-1AD189A0A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A480-03D1-4836-A34B-7610A7283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60F3-D102-4F58-8372-5801FFF73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C363-2A59-42B8-93A1-822722374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ii.org/" TargetMode="External"/><Relationship Id="rId3" Type="http://schemas.openxmlformats.org/officeDocument/2006/relationships/hyperlink" Target="http://infomine.ucr.edu/" TargetMode="External"/><Relationship Id="rId4" Type="http://schemas.openxmlformats.org/officeDocument/2006/relationships/hyperlink" Target="http://www.academicinfo.us/" TargetMode="External"/><Relationship Id="rId5" Type="http://schemas.openxmlformats.org/officeDocument/2006/relationships/hyperlink" Target="http://dir.yahoo.com/" TargetMode="External"/><Relationship Id="rId6" Type="http://schemas.openxmlformats.org/officeDocument/2006/relationships/hyperlink" Target="http://directory.google.com/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.archive.org/web/20041012180151/pubweb.northwestern.edu/~abutz/di/intro.html" TargetMode="External"/><Relationship Id="rId3" Type="http://schemas.openxmlformats.org/officeDocument/2006/relationships/hyperlink" Target="http://www.seas.upenn.edu/~udani/personals.html" TargetMode="External"/><Relationship Id="rId4" Type="http://schemas.openxmlformats.org/officeDocument/2006/relationships/hyperlink" Target="http://pages.yahoo.com/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gis.edu/library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scholar.google.com/" TargetMode="External"/><Relationship Id="rId4" Type="http://schemas.openxmlformats.org/officeDocument/2006/relationships/hyperlink" Target="http://www.clusty.com/" TargetMode="External"/><Relationship Id="rId5" Type="http://schemas.openxmlformats.org/officeDocument/2006/relationships/hyperlink" Target="http://ask.com/" TargetMode="External"/><Relationship Id="rId6" Type="http://schemas.openxmlformats.org/officeDocument/2006/relationships/hyperlink" Target="http://search.yahoo.com/" TargetMode="External"/><Relationship Id="rId7" Type="http://schemas.openxmlformats.org/officeDocument/2006/relationships/hyperlink" Target="http://prospector.coalliance.org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ternettutorials.net/started.html" TargetMode="External"/><Relationship Id="rId3" Type="http://schemas.openxmlformats.org/officeDocument/2006/relationships/hyperlink" Target="http://www.cyward.com/speciali.htm" TargetMode="External"/><Relationship Id="rId4" Type="http://schemas.openxmlformats.org/officeDocument/2006/relationships/hyperlink" Target="http://webquest.sdsu.edu/searching/specialized.html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asywhois.com/" TargetMode="External"/><Relationship Id="rId3" Type="http://schemas.openxmlformats.org/officeDocument/2006/relationships/hyperlink" Target="http://www.martinlutherking.org/" TargetMode="External"/><Relationship Id="rId4" Type="http://schemas.openxmlformats.org/officeDocument/2006/relationships/hyperlink" Target="http://www.harrypotter.com/" TargetMode="External"/><Relationship Id="rId5" Type="http://schemas.openxmlformats.org/officeDocument/2006/relationships/hyperlink" Target="http://www.globalwarming.org/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chive.org/web/web.ph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2.sims.berkeley.edu/research/projects/how-much-info-2003/execsum.htm" TargetMode="Externa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54104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0040"/>
                </a:solidFill>
                <a:latin typeface="Arial Rounded MT Bold"/>
              </a:rPr>
              <a:t>Effective Resear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Research_graphic"/>
          <p:cNvPicPr/>
          <p:nvPr/>
        </p:nvPicPr>
        <p:blipFill>
          <a:blip r:embed="rId2"/>
          <a:stretch/>
        </p:blipFill>
        <p:spPr>
          <a:xfrm>
            <a:off x="4114800" y="228600"/>
            <a:ext cx="50292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Task /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questions do you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do you know alrea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do you need to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type of information is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Research_graphic"/>
          <p:cNvPicPr/>
          <p:nvPr/>
        </p:nvPicPr>
        <p:blipFill>
          <a:blip r:embed="rId2"/>
          <a:stretch/>
        </p:blipFill>
        <p:spPr>
          <a:xfrm>
            <a:off x="0" y="228600"/>
            <a:ext cx="2438280" cy="21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earch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dentify keywords &amp; 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ouns &amp;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4 – 6 words for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e the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e View option in the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ing advanc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ing + or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Research_graphic"/>
          <p:cNvPicPr/>
          <p:nvPr/>
        </p:nvPicPr>
        <p:blipFill>
          <a:blip r:embed="rId2"/>
          <a:stretch/>
        </p:blipFill>
        <p:spPr>
          <a:xfrm>
            <a:off x="152280" y="304920"/>
            <a:ext cx="1828800" cy="16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ubject Directories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ibrarians’ Index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li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fomine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infomine.ucr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cademic Inf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academicinfo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Yahoo Director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dir.yahoo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ogle Director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directory.goog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Research_graphic"/>
          <p:cNvPicPr/>
          <p:nvPr/>
        </p:nvPicPr>
        <p:blipFill>
          <a:blip r:embed="rId7"/>
          <a:stretch/>
        </p:blipFill>
        <p:spPr>
          <a:xfrm>
            <a:off x="152280" y="380880"/>
            <a:ext cx="167652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361960" y="9140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Locating and Accessing th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ocate th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nd the information within th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valuate the accuracy of th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Research_graphic"/>
          <p:cNvPicPr/>
          <p:nvPr/>
        </p:nvPicPr>
        <p:blipFill>
          <a:blip r:embed="rId2"/>
          <a:stretch/>
        </p:blipFill>
        <p:spPr>
          <a:xfrm>
            <a:off x="685800" y="533520"/>
            <a:ext cx="2362320" cy="20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edu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ducational organization (most US univers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k12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US school site (not all US schools use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ac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cademic institution (outside of 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sch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chool site (outside of the 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com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mpany (usually .co in the U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org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y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gov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vernment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net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mil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ilitary i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w extensions to look for are .biz, .name, .pro, .info. All are used for commercial purpo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Research_graphic"/>
          <p:cNvPicPr/>
          <p:nvPr/>
        </p:nvPicPr>
        <p:blipFill>
          <a:blip r:embed="rId2"/>
          <a:stretch/>
        </p:blipFill>
        <p:spPr>
          <a:xfrm>
            <a:off x="457200" y="380880"/>
            <a:ext cx="1790640" cy="15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Personal sites (~)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pubweb.northwestern.edu/~abutz/di/intro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is site is a Holocaust Revisionist site that argues that the Holocaust did not take place.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seas.upenn.edu/~udani/personal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ntains links to free personal/singles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eocitie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pages.yahoo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028" descr="Research_graphic"/>
          <p:cNvPicPr/>
          <p:nvPr/>
        </p:nvPicPr>
        <p:blipFill>
          <a:blip r:embed="rId5"/>
          <a:stretch/>
        </p:blipFill>
        <p:spPr>
          <a:xfrm>
            <a:off x="6819840" y="4856040"/>
            <a:ext cx="2324160" cy="200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Regis On-line Library &amp; Databas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371240" y="2895480"/>
            <a:ext cx="6553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regis.edu/library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4" descr="Research_graphic"/>
          <p:cNvPicPr/>
          <p:nvPr/>
        </p:nvPicPr>
        <p:blipFill>
          <a:blip r:embed="rId3"/>
          <a:stretch/>
        </p:blipFill>
        <p:spPr>
          <a:xfrm>
            <a:off x="5943600" y="4087800"/>
            <a:ext cx="2933640" cy="25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Other Search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o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goog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ogle Scho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scholar.googl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lus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clust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as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Yahoo 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search.yaho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arch Prosp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http://prospector.coalliance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Research_graphic"/>
          <p:cNvPicPr/>
          <p:nvPr/>
        </p:nvPicPr>
        <p:blipFill>
          <a:blip r:embed="rId8"/>
          <a:stretch/>
        </p:blipFill>
        <p:spPr>
          <a:xfrm>
            <a:off x="7162920" y="5181480"/>
            <a:ext cx="1714320" cy="14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till Not S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ternet Tuto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internettutorials.net/starte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yward Internet Education: Search Engines &amp; Specialized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cyward.com/speciali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pecialized Search Engines &amp; Direct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ebquest.sdsu.edu/searching/specialize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Research_graphic"/>
          <p:cNvPicPr/>
          <p:nvPr/>
        </p:nvPicPr>
        <p:blipFill>
          <a:blip r:embed="rId5"/>
          <a:stretch/>
        </p:blipFill>
        <p:spPr>
          <a:xfrm>
            <a:off x="6781680" y="762120"/>
            <a:ext cx="2019600" cy="17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-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Who owns the site?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easywhoi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martinlutherking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torm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harrypotter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www.globalwarming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ational Consumer Coal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Research_graphic"/>
          <p:cNvPicPr/>
          <p:nvPr/>
        </p:nvPicPr>
        <p:blipFill>
          <a:blip r:embed="rId6"/>
          <a:stretch/>
        </p:blipFill>
        <p:spPr>
          <a:xfrm>
            <a:off x="6172200" y="304920"/>
            <a:ext cx="2666880" cy="22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Why is it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ternet is becoming #1 source f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vailable information growing exponenti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eed to teach students how to research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eed to be able to determine qualit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4" descr="Research_graphic"/>
          <p:cNvPicPr/>
          <p:nvPr/>
        </p:nvPicPr>
        <p:blipFill>
          <a:blip r:embed="rId2"/>
          <a:stretch/>
        </p:blipFill>
        <p:spPr>
          <a:xfrm>
            <a:off x="152280" y="380880"/>
            <a:ext cx="1486080" cy="1279800"/>
          </a:xfrm>
          <a:prstGeom prst="rect">
            <a:avLst/>
          </a:prstGeom>
          <a:ln w="0">
            <a:noFill/>
          </a:ln>
        </p:spPr>
      </p:pic>
      <p:sp>
        <p:nvSpPr>
          <p:cNvPr id="504" name="AutoShape 6">
            <a:hlinkClick r:id="rId3" action="ppaction://hlinksldjump"/>
          </p:cNvPr>
          <p:cNvSpPr/>
          <p:nvPr/>
        </p:nvSpPr>
        <p:spPr>
          <a:xfrm>
            <a:off x="914400" y="3124080"/>
            <a:ext cx="5486400" cy="914400"/>
          </a:xfrm>
          <a:custGeom>
            <a:avLst/>
            <a:gdLst>
              <a:gd name="textAreaLeft" fmla="*/ 59040 w 5486400"/>
              <a:gd name="textAreaRight" fmla="*/ 5427360 w 5486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9557" h="21600">
                <a:moveTo>
                  <a:pt x="0" y="0"/>
                </a:moveTo>
                <a:lnTo>
                  <a:pt x="129557" y="0"/>
                </a:lnTo>
                <a:lnTo>
                  <a:pt x="129557" y="21600"/>
                </a:lnTo>
                <a:lnTo>
                  <a:pt x="0" y="21600"/>
                </a:lnTo>
                <a:close/>
              </a:path>
              <a:path fill="lightenLess" w="129557" h="21600">
                <a:moveTo>
                  <a:pt x="0" y="0"/>
                </a:moveTo>
                <a:lnTo>
                  <a:pt x="129557" y="0"/>
                </a:lnTo>
                <a:lnTo>
                  <a:pt x="128158" y="1400"/>
                </a:lnTo>
                <a:lnTo>
                  <a:pt x="1400" y="1400"/>
                </a:lnTo>
                <a:close/>
              </a:path>
              <a:path fill="darken" w="129557" h="21600">
                <a:moveTo>
                  <a:pt x="129557" y="0"/>
                </a:moveTo>
                <a:lnTo>
                  <a:pt x="129557" y="21600"/>
                </a:lnTo>
                <a:lnTo>
                  <a:pt x="128158" y="20200"/>
                </a:lnTo>
                <a:lnTo>
                  <a:pt x="128158" y="1400"/>
                </a:lnTo>
                <a:close/>
              </a:path>
              <a:path fill="darkenLess" w="129557" h="21600">
                <a:moveTo>
                  <a:pt x="129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58" y="20200"/>
                </a:lnTo>
                <a:close/>
              </a:path>
              <a:path fill="lighten" w="129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7">
            <a:hlinkClick r:id="rId4" action="ppaction://hlinksldjump"/>
          </p:cNvPr>
          <p:cNvSpPr/>
          <p:nvPr/>
        </p:nvSpPr>
        <p:spPr>
          <a:xfrm>
            <a:off x="7772400" y="647712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History of a Site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371240" y="236232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archive.org/web/web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Research_graphic"/>
          <p:cNvPicPr/>
          <p:nvPr/>
        </p:nvPicPr>
        <p:blipFill>
          <a:blip r:embed="rId3"/>
          <a:stretch/>
        </p:blipFill>
        <p:spPr>
          <a:xfrm>
            <a:off x="6095880" y="4114800"/>
            <a:ext cx="278136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Using the Information</a:t>
            </a:r>
            <a:br>
              <a:rPr sz="4400"/>
            </a:b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(note tak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257440" y="2514600"/>
            <a:ext cx="2971800" cy="3733920"/>
          </a:xfrm>
          <a:prstGeom prst="rect">
            <a:avLst/>
          </a:prstGeom>
          <a:noFill/>
          <a:ln w="57240">
            <a:solidFill>
              <a:srgbClr val="80004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ote c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ut-&amp;-P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lor co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3 colum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rnell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teractive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838080" y="2286000"/>
            <a:ext cx="350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nking to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ased on the source, purpose and u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itations document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6" descr="Research_graphic"/>
          <p:cNvPicPr/>
          <p:nvPr/>
        </p:nvPicPr>
        <p:blipFill>
          <a:blip r:embed="rId2"/>
          <a:stretch/>
        </p:blipFill>
        <p:spPr>
          <a:xfrm>
            <a:off x="6477120" y="22860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APA Format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8762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gis site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regis.edu/content/lib/pdf/lib.handouts.APAcitationstyle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Purdue On-line Writing Lab (OWL)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owl.english.purdue.edu/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oodletools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oodle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n of Citation Machine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ttp://citationmachine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Research_graphic"/>
          <p:cNvPicPr/>
          <p:nvPr/>
        </p:nvPicPr>
        <p:blipFill>
          <a:blip r:embed="rId2"/>
          <a:stretch/>
        </p:blipFill>
        <p:spPr>
          <a:xfrm>
            <a:off x="228600" y="22860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809520" y="2514600"/>
            <a:ext cx="49532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lide Show / Mo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raphics a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Research_graphic"/>
          <p:cNvPicPr/>
          <p:nvPr/>
        </p:nvPicPr>
        <p:blipFill>
          <a:blip r:embed="rId2"/>
          <a:stretch/>
        </p:blipFill>
        <p:spPr>
          <a:xfrm>
            <a:off x="685800" y="2209680"/>
            <a:ext cx="2895480" cy="24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ow do you feel about your pro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rammar, spelling, 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lf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eer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ubric -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id project answer the tas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urniti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turnitin.com/static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4" descr="Research_graphic"/>
          <p:cNvPicPr/>
          <p:nvPr/>
        </p:nvPicPr>
        <p:blipFill>
          <a:blip r:embed="rId2"/>
          <a:stretch/>
        </p:blipFill>
        <p:spPr>
          <a:xfrm>
            <a:off x="6400800" y="228600"/>
            <a:ext cx="2590920" cy="22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d you respect intellectual proper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o you have a bibliography with diverse sour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d you use in-text citations when paraphra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d you collaborate effectively with 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pyright Law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enedict.com/Info/Info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tiquette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albion.com/netiquett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Research_graphic"/>
          <p:cNvPicPr/>
          <p:nvPr/>
        </p:nvPicPr>
        <p:blipFill>
          <a:blip r:embed="rId2"/>
          <a:stretch/>
        </p:blipFill>
        <p:spPr>
          <a:xfrm>
            <a:off x="6705720" y="4800600"/>
            <a:ext cx="22096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ning, A. B. (2006, October 16). An Introduction:Big6 Information Problem Solving with Technology.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Big6 Over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3, 2007, from Big6 Associates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ig6.com/showarticle.php?id=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hen, L. (2007, February 7). Checklist of Internet Research Tips.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ternet Tutori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5, 2007, from University at Albany, SUNY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internettutorials.net/checklis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hen, L. (2007, March 9). Search Engines.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ternet Tutori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5, 2007, from University at Albany, SUNY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internettutorials.net/engin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senberg, M., &amp; Berkowitz, B. (2007, March 12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Big 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3, 2007, from Big6 Associates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big6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odletools. (2004, July 7). (APA) How do I write an APA parenthetical (in-text) reference? [Knowledge Base: Article 52]. Message posted to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oodletools.com/kb/index.php?article=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Consider th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609480" y="1905120"/>
            <a:ext cx="815364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 Engine Results: 2,690,000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ould examine each site in 5 minutes, in order to complete this research (without stopping for food or rest) it would take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4,167   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r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9,343   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r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1,334   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r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25.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lculated by Fr. Don Highberger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gis University For Professional Studi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munications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40"/>
                </a:solidFill>
                <a:latin typeface="Arial Rounded MT Bold"/>
              </a:rPr>
              <a:t>Informa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4000" spc="-1" strike="noStrike">
                <a:solidFill>
                  <a:srgbClr val="800040"/>
                </a:solidFill>
                <a:latin typeface="Arial Rounded MT Bold"/>
              </a:rPr>
              <a:t>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nformation stored on paper, film, optical, and magnetic  media totals about 5 EB of new information each yea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w information communicated through electronic information flows - telephone, radio, TV, and the Internet is about 17.7 EB each ye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Volume of information on the public Web at 20 to 50 TB in 2002, ... In 2003 - 167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2.sims.berkeley.edu/research/projects/how-much-info-2003/execsum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>
            <a:hlinkClick r:id="rId3" action="ppaction://hlinksldjump"/>
          </p:cNvPr>
          <p:cNvSpPr/>
          <p:nvPr/>
        </p:nvSpPr>
        <p:spPr>
          <a:xfrm>
            <a:off x="7924680" y="6553080"/>
            <a:ext cx="1219320" cy="30492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7">
            <a:hlinkClick r:id="rId4" action="ppaction://hlinksldjump"/>
          </p:cNvPr>
          <p:cNvSpPr/>
          <p:nvPr/>
        </p:nvSpPr>
        <p:spPr>
          <a:xfrm>
            <a:off x="0" y="6553080"/>
            <a:ext cx="1219320" cy="30492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HowBig"/>
          <p:cNvPicPr/>
          <p:nvPr/>
        </p:nvPicPr>
        <p:blipFill>
          <a:blip r:embed="rId2"/>
          <a:stretch/>
        </p:blipFill>
        <p:spPr>
          <a:xfrm>
            <a:off x="-2286000" y="-1371600"/>
            <a:ext cx="14046120" cy="1064268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5">
            <a:hlinkClick r:id="" action="ppaction://hlinkshowjump?jump=previousslide"/>
          </p:cNvPr>
          <p:cNvSpPr/>
          <p:nvPr/>
        </p:nvSpPr>
        <p:spPr>
          <a:xfrm>
            <a:off x="8077320" y="64771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earch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39621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gis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-Search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Big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Research_graphic"/>
          <p:cNvPicPr/>
          <p:nvPr/>
        </p:nvPicPr>
        <p:blipFill>
          <a:blip r:embed="rId2"/>
          <a:stretch/>
        </p:blipFill>
        <p:spPr>
          <a:xfrm>
            <a:off x="5257800" y="2362320"/>
            <a:ext cx="293364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Regis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Effective search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nding books and other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nding periodical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ritically evaluat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Research_graphic"/>
          <p:cNvPicPr/>
          <p:nvPr/>
        </p:nvPicPr>
        <p:blipFill>
          <a:blip r:embed="rId2"/>
          <a:stretch/>
        </p:blipFill>
        <p:spPr>
          <a:xfrm>
            <a:off x="7010280" y="304920"/>
            <a:ext cx="1866960" cy="16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I-Search Model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(Ken Macro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quiry-based research process to actively involv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4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mmersion in a topic and generat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veloping a search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athering &amp; integra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resent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Research_graphic"/>
          <p:cNvPicPr/>
          <p:nvPr/>
        </p:nvPicPr>
        <p:blipFill>
          <a:blip r:embed="rId2"/>
          <a:stretch/>
        </p:blipFill>
        <p:spPr>
          <a:xfrm>
            <a:off x="7010280" y="228600"/>
            <a:ext cx="1866960" cy="16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The Big 6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(Mike Eisenberg &amp; Bob Berkowit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6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ask Defin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formation Seek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ocation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e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ot necessary to complete these steps in linear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028" descr="Research_graphic"/>
          <p:cNvPicPr/>
          <p:nvPr/>
        </p:nvPicPr>
        <p:blipFill>
          <a:blip r:embed="rId2"/>
          <a:stretch/>
        </p:blipFill>
        <p:spPr>
          <a:xfrm>
            <a:off x="6934320" y="304920"/>
            <a:ext cx="2019240" cy="17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00:32:10Z</dcterms:created>
  <dc:creator>B Rogers</dc:creator>
  <dc:description/>
  <dc:language>en-US</dc:language>
  <cp:lastModifiedBy>B Rogers</cp:lastModifiedBy>
  <cp:lastPrinted>2008-05-02T16:11:16Z</cp:lastPrinted>
  <dcterms:modified xsi:type="dcterms:W3CDTF">2010-01-16T15:16:45Z</dcterms:modified>
  <cp:revision>35</cp:revision>
  <dc:subject/>
  <dc:title>Effective Research</dc:title>
</cp:coreProperties>
</file>