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C43B-CEAB-44F0-8ED6-89F9925F3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9EAE-16FE-4570-8810-1175C8E98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C545-5F03-489D-BB83-F2E5EC78A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CB03-CD49-469D-87E2-40718CF50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DEFA-571D-4A8A-9818-013E6397F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9B33-F567-4770-88DD-DB1912760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BCC6-6CAE-4848-85D0-0597EDB33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2F71-68AA-4837-A940-E76FEA338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4763-730A-4BA4-B454-0D0F2FA9F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195D-6E1B-435E-9222-9312A86A7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1C99-303A-472C-A845-1FF6DFACE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95AA-42C2-4928-8952-5FFAD2A65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6734-882E-4539-A7EC-403599344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5AB5-B974-45A8-8C5A-7E83F7BCF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F9D7-771C-4FFD-9552-F802056EE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8107-02AC-4B45-B11E-BBC86527D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FD43-6DB3-4573-834C-D08729990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C1F1-1368-4AC9-A0B6-A0378BD9B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346B-5824-4B02-AEA1-85B0C584F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B97F-FECC-4DE7-902A-C08007D5E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1273-1828-4D63-AA06-AC6775B14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62F6-53A6-479C-87BE-8882F8DBA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EF40-4DB4-4354-80A2-453C5826B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692F-EEC2-4520-A4EA-F47F128A1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BC2E-CDEF-458C-8DC8-4A259A19F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AC14-A8B3-4AD4-91E6-C4382C482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58E8-D50C-42D5-AACC-546FED0AD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B599-13D6-43AA-8C3D-439D53FA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ABF1-8916-4780-9598-78EE7C71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8A23E-D97F-437C-A499-027E8115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54703-594A-44FB-9E17-96F6E0E0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17024-5D3F-4659-B5C1-1490907E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BB66B-5C73-428C-AE8F-5B6FC98E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7361C-A04B-42F0-88DA-BAB7FC31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186BB-1833-4358-A1BA-0E666267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BA57C-BBE1-44CB-81DB-3897A025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DF05E-EE1E-42BD-9228-C0DBB26A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C9E4A-D45C-43E6-B79E-86293CA4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A09C5-595A-4EBC-9131-CDD2DD09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43BC-4EE4-49A6-9EDF-BAAE2D60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6F4DA-2B99-42B7-91D0-558072A5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97B6E-4436-4F3B-9813-ED6DB205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4E41A-C747-4F36-8CFF-705C32C3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B9AB0-DF4E-4581-95F0-F5BA0290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34818-8CBA-45DA-B40A-A9AF0D79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4D22B-B372-4B3E-B107-53A459DF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74958-6D6B-4830-812C-FDC13931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42B8E-9A0B-4658-9AE8-A4ED0356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C1DB4-EEA3-4B7F-A8FF-F6E67792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A086D-871D-4274-8AA5-7912BFAA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6312-E636-4F35-87B3-CBD59163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5E622-A6EB-4B34-8E84-0B8650B8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54C0F-1882-4176-B356-62B86A1B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23F54-DF87-4431-9792-10CBB3A0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BECF6-D920-47BD-B057-05B8FA17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914B4-8365-421C-9B5D-468C15E6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B3B3A-3DDB-4244-8383-8C0DC651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8EDAB-14CC-4657-8518-24BE7469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0AC87-45E5-45B8-96D3-2D8E183C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145FF-D43B-4F65-BD1B-2EEC31DE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1DECD-B5A1-4D14-AD9D-5C3B2260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2886-CC39-4D70-8BA8-2448EBF6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23829-0F78-49FA-9EFC-4AFD3AD8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CCD48-5EAC-4DCA-9BF2-4CDD2EB3B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E6F99-5A16-41A8-8A57-7E416FC9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1F86E-07F6-4D88-AD27-D0249404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95AAC-21F8-4E34-AC09-CA4A4545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5E151-2012-4276-8E32-78EF53F4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BE0BD-AAEA-46D1-A431-91447614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60904-A004-4EE9-AC85-369D83F8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A8A13-AAC7-4D15-8626-DF442468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648A1-556F-4B9A-BC89-4BEF1CDA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536D-8F93-4530-9FAC-8F92C1CD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F111C-1B0D-4BB7-9536-E7AB8A55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14110-3FA0-4566-B152-82470E3B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D08FF-0555-4B2B-96BA-6797EA49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4213F-24C8-45C7-94B1-1B7A315D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40B9C-D862-4A3B-AC80-228F0AE8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97F7-0CD7-402F-BDB9-2897641F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7227-A126-43F6-AE9A-A06D2721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6A88-3D91-41F2-AB59-37EF8D18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21A3-9623-436A-B00F-74728A75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1955-C80F-4655-B961-8F4F1E3A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FEF0-1082-4F29-B9CB-DBEE8748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0C1C-BCF2-4AAC-BF57-DD89E916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B036-353A-4D9E-8BAA-4BC0E20C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BCD3-EAD4-40CB-B2A9-4AC2FD0A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78DB-46D2-4607-8CDF-8BFCEF67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E85D-C07E-4BC4-8C10-F9F20A17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5CAF7-369E-4C1D-AF12-A22171EB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4F46D-8AAD-47D0-B5E8-4BEDC496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107C4-1ABE-4385-8D0F-4244ED11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7C0B8-C766-4DCC-8003-84D18FD3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07AF8-FAAE-4E9B-A3DC-FF821352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8E07-597D-4074-A3EA-84DBD0EA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C0BD1-D155-405A-B846-ADC57B9C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C1B49-A851-496D-9206-561C5E6D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BE656-FB12-40F6-A774-19859B28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78583-6223-4819-A05D-A8F86CEE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EE11E-72BC-45AA-ACD2-5B840814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B2139-AD7E-4552-8EE0-6B26959A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DB2F6-9D00-46B8-B739-2BF07CC3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39BBC-4448-485E-B219-4C181DF9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06793-0241-4E69-B057-8F6F166F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A94DD-2D4B-4C59-BB01-EB42713F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C109-3521-403F-9CFE-E24D4F8B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A4E56-16C5-47FC-A904-C02A89BF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84E4C-862A-44E8-AB9D-EF58B71A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B0266-434A-4F65-BB8F-D1437292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72A8D-A2F0-4287-A92D-112A6F98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C8898-6A72-4233-ACE2-61185AE6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82077-2E00-4685-B917-ED85D9F0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5F509-BEC2-42F5-A40D-037326A4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4199B-579D-4C12-8223-6EEFAA4C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77B79-839B-4B87-A1A1-B9CEB49B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7711E-D27E-42A8-B485-9EB52114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C49B-B435-42C7-941D-2FBD799D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EC580-3AA3-47BD-9AAA-21C078EF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F9105-06AA-42FC-92F5-5E0B0BDF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208B5-7505-40B0-913C-BD11CD86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4C1C8-A49C-4959-9C34-6892D499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0F4D6-2D23-4E7B-954F-F83A59C2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AFA02-FDE7-4A80-832E-71337502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485F3-7737-4FD0-9B3C-83E638C5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A38C9-7619-4796-B675-FBE233F9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C7FFA-CD37-487A-9F63-B7B78401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9F1B4-2FEC-4069-B21F-5D9FDDC8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F6D8-05AA-4572-9DAA-5B0293D6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C1274-3E33-481A-A361-E015CD6A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2BE80-F84E-48EC-993F-F6C84504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29021-EEF3-4179-A9DE-9D2B0236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76EC2-EC79-4F7C-BD1C-FB6425D2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6FE2A-C21D-4F17-B3D7-A5BE6994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FAA83-BABB-4290-A7B5-31738EA5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93873-B0C4-4B46-AD0B-1712D133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C0C63-01DE-4C75-9A8D-9ADC7BBF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5CF1E-3844-4AC3-BB5A-3E8658EF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6777F-59BF-402B-8596-5660BE6C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46A4-0A02-4BD0-AD76-AE428BB9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98564-74EB-4D04-8717-46CF1B09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6F5BE-F396-42F0-A162-0DB1D90F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25961-893A-4E0B-8FF4-8025FAE3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C7725-F37B-4B0D-A345-0D2A823E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A964A-B186-47D1-9516-81D234C1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20512-2C89-4420-9DBD-0D14E310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98992-A619-4E4D-9D07-C2AC3D81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54DBD-F9A2-4858-A5B7-39D01E3E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82EE5-B169-4F7E-83F0-111B1DE8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3791A-4518-4738-99D3-2A343CE4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0837-5ACF-4827-88D3-C5B1987E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68AE1-CDCC-483D-B669-6D213842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9BC53-D545-4513-A87D-1B0C9B93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014B5-FA18-4825-9C6B-9218F5C6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7FFF2-57A8-4169-9F9A-AB8F2FD8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AD3BD-8046-480A-B947-A081AAFE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942DE-D9B2-4A67-9E31-0E8B736F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F6269-1872-42EF-B7CA-BAB9194E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F05FA-5914-411E-A542-25EFEB22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460C9-BAC9-499C-B991-129ABF9A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1C344-19CD-4565-828A-1FBEE6DA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CE62-3DB9-4BF9-9129-68BEE383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42B82-2B1D-43F1-ADF7-D2385975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AD7E2-4A3A-4E49-A293-9CEA003B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8EEFE-F532-43EA-BB64-A064A66F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EAD95-B57E-4A9D-9E38-6790CF25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80BD5-5CA3-4FEF-BB82-2ECBE551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03BB0-B961-452A-B0DF-3483E6C8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59B1F-6BC1-412E-94FE-FD69EDE4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B5574-0917-48D8-844D-ACC704DE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76DEC-92A5-4CC8-B20B-27BA9C37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32314-68A4-4B00-B02E-31BEC5B8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3CBB-9061-4761-8569-62A3464E1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B7BB-26BC-48C6-9B77-EC0BCE163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02C2-EE33-42FC-8E73-D135C4385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7D36-A750-4912-B0AF-BB87F0CBD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2393-94A6-4C23-9E1C-E595F2D51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F38A-4B8D-45ED-A826-ED99463D4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36FA-088D-439C-9D01-9012EB9C5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8C5F-6470-47D3-87D0-3DAA02A16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7389-3246-488A-ADAB-B6955D98D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DAEE-F6C7-4F43-994C-964ABCCD3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EA5B-7067-4B31-BFA6-6AD96A7D6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18F8-A848-4C8F-BDB7-A83C3AB38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ii.org/" TargetMode="External"/><Relationship Id="rId3" Type="http://schemas.openxmlformats.org/officeDocument/2006/relationships/hyperlink" Target="http://infomine.ucr.edu/" TargetMode="External"/><Relationship Id="rId4" Type="http://schemas.openxmlformats.org/officeDocument/2006/relationships/hyperlink" Target="http://www.academicinfo.us/" TargetMode="External"/><Relationship Id="rId5" Type="http://schemas.openxmlformats.org/officeDocument/2006/relationships/hyperlink" Target="http://dir.yahoo.com/" TargetMode="External"/><Relationship Id="rId6" Type="http://schemas.openxmlformats.org/officeDocument/2006/relationships/hyperlink" Target="http://directory.google.com/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.archive.org/web/20041012180151/pubweb.northwestern.edu/~abutz/di/intro.html" TargetMode="External"/><Relationship Id="rId3" Type="http://schemas.openxmlformats.org/officeDocument/2006/relationships/hyperlink" Target="http://www.seas.upenn.edu/~udani/personals.html" TargetMode="External"/><Relationship Id="rId4" Type="http://schemas.openxmlformats.org/officeDocument/2006/relationships/hyperlink" Target="http://pages.yahoo.com/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egis.edu/library.htm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" TargetMode="External"/><Relationship Id="rId3" Type="http://schemas.openxmlformats.org/officeDocument/2006/relationships/hyperlink" Target="http://scholar.google.com/" TargetMode="External"/><Relationship Id="rId4" Type="http://schemas.openxmlformats.org/officeDocument/2006/relationships/hyperlink" Target="http://www.clusty.com/" TargetMode="External"/><Relationship Id="rId5" Type="http://schemas.openxmlformats.org/officeDocument/2006/relationships/hyperlink" Target="http://ask.com/" TargetMode="External"/><Relationship Id="rId6" Type="http://schemas.openxmlformats.org/officeDocument/2006/relationships/hyperlink" Target="http://search.yahoo.com/" TargetMode="External"/><Relationship Id="rId7" Type="http://schemas.openxmlformats.org/officeDocument/2006/relationships/hyperlink" Target="http://prospector.coalliance.org/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ternettutorials.net/started.html" TargetMode="External"/><Relationship Id="rId3" Type="http://schemas.openxmlformats.org/officeDocument/2006/relationships/hyperlink" Target="http://www.cyward.com/speciali.htm" TargetMode="External"/><Relationship Id="rId4" Type="http://schemas.openxmlformats.org/officeDocument/2006/relationships/hyperlink" Target="http://webquest.sdsu.edu/searching/specialized.html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asywhois.com/" TargetMode="External"/><Relationship Id="rId3" Type="http://schemas.openxmlformats.org/officeDocument/2006/relationships/hyperlink" Target="http://www.martinlutherking.org/" TargetMode="External"/><Relationship Id="rId4" Type="http://schemas.openxmlformats.org/officeDocument/2006/relationships/hyperlink" Target="http://www.harrypotter.com/" TargetMode="External"/><Relationship Id="rId5" Type="http://schemas.openxmlformats.org/officeDocument/2006/relationships/hyperlink" Target="http://www.globalwarming.org/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chive.org/web/web.php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2.sims.berkeley.edu/research/projects/how-much-info-2003/execsum.htm" TargetMode="Externa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541044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00040"/>
                </a:solidFill>
                <a:latin typeface="Arial Rounded MT Bold"/>
              </a:rPr>
              <a:t>Effective Resear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5" descr="Research_graphic"/>
          <p:cNvPicPr/>
          <p:nvPr/>
        </p:nvPicPr>
        <p:blipFill>
          <a:blip r:embed="rId2"/>
          <a:stretch/>
        </p:blipFill>
        <p:spPr>
          <a:xfrm>
            <a:off x="4114800" y="228600"/>
            <a:ext cx="502920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Task / Top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questions do you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do you know alread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do you need to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type of information is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Research_graphic"/>
          <p:cNvPicPr/>
          <p:nvPr/>
        </p:nvPicPr>
        <p:blipFill>
          <a:blip r:embed="rId2"/>
          <a:stretch/>
        </p:blipFill>
        <p:spPr>
          <a:xfrm>
            <a:off x="0" y="228600"/>
            <a:ext cx="2438280" cy="21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Search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dentify keywords &amp; phr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ouns &amp; 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4 – 6 words for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Use thesa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Use View option in the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Using advanc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Using + or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Research_graphic"/>
          <p:cNvPicPr/>
          <p:nvPr/>
        </p:nvPicPr>
        <p:blipFill>
          <a:blip r:embed="rId2"/>
          <a:stretch/>
        </p:blipFill>
        <p:spPr>
          <a:xfrm>
            <a:off x="152280" y="304920"/>
            <a:ext cx="1828800" cy="165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Subject Directories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Librarians’ Index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li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fomine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infomine.ucr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cademic Info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ww.academicinfo.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Yahoo Directory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dir.yahoo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ogle Directory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http://directory.googl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Research_graphic"/>
          <p:cNvPicPr/>
          <p:nvPr/>
        </p:nvPicPr>
        <p:blipFill>
          <a:blip r:embed="rId7"/>
          <a:stretch/>
        </p:blipFill>
        <p:spPr>
          <a:xfrm>
            <a:off x="152280" y="380880"/>
            <a:ext cx="1676520" cy="14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361960" y="9140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Locating and Accessing th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Locate th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ind the information within th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valuate the accuracy of th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Research_graphic"/>
          <p:cNvPicPr/>
          <p:nvPr/>
        </p:nvPicPr>
        <p:blipFill>
          <a:blip r:embed="rId2"/>
          <a:stretch/>
        </p:blipFill>
        <p:spPr>
          <a:xfrm>
            <a:off x="685800" y="533520"/>
            <a:ext cx="2362320" cy="203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Ext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edu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Educational organization (most US univers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k12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US school site (not all US schools use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ac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cademic institution (outside of 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sch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chool site (outside of the 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com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mpany (usually .co in the U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org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y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gov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vernment a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net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mil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ilitary i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w extensions to look for are .biz, .name, .pro, .info. All are used for commercial purpo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Research_graphic"/>
          <p:cNvPicPr/>
          <p:nvPr/>
        </p:nvPicPr>
        <p:blipFill>
          <a:blip r:embed="rId2"/>
          <a:stretch/>
        </p:blipFill>
        <p:spPr>
          <a:xfrm>
            <a:off x="457200" y="380880"/>
            <a:ext cx="1790640" cy="15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Personal sites (~)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pubweb.northwestern.edu/~abutz/di/intro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is site is a Holocaust Revisionist site that argues that the Holocaust did not take place.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seas.upenn.edu/~udani/personal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ntains links to free personal/singles p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eocitie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pages.yahoo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028" descr="Research_graphic"/>
          <p:cNvPicPr/>
          <p:nvPr/>
        </p:nvPicPr>
        <p:blipFill>
          <a:blip r:embed="rId5"/>
          <a:stretch/>
        </p:blipFill>
        <p:spPr>
          <a:xfrm>
            <a:off x="6819840" y="4856040"/>
            <a:ext cx="2324160" cy="200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Regis On-line Library &amp; Databas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371240" y="2895480"/>
            <a:ext cx="6553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regis.edu/library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4" descr="Research_graphic"/>
          <p:cNvPicPr/>
          <p:nvPr/>
        </p:nvPicPr>
        <p:blipFill>
          <a:blip r:embed="rId3"/>
          <a:stretch/>
        </p:blipFill>
        <p:spPr>
          <a:xfrm>
            <a:off x="5943600" y="4087800"/>
            <a:ext cx="2933640" cy="25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Other Search En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o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googl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ogle Scho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scholar.googl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lus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ww.clust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ask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Yahoo 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http://search.yaho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arch Prosp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http://prospector.coalliance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Research_graphic"/>
          <p:cNvPicPr/>
          <p:nvPr/>
        </p:nvPicPr>
        <p:blipFill>
          <a:blip r:embed="rId8"/>
          <a:stretch/>
        </p:blipFill>
        <p:spPr>
          <a:xfrm>
            <a:off x="7162920" y="5181480"/>
            <a:ext cx="1714320" cy="14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Still Not S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nternet Tutori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internettutorials.net/starte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yward Internet Education: Search Engines &amp; Specialized 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cyward.com/speciali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pecialized Search Engines &amp; Directo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ebquest.sdsu.edu/searching/specialize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4" descr="Research_graphic"/>
          <p:cNvPicPr/>
          <p:nvPr/>
        </p:nvPicPr>
        <p:blipFill>
          <a:blip r:embed="rId5"/>
          <a:stretch/>
        </p:blipFill>
        <p:spPr>
          <a:xfrm>
            <a:off x="6781680" y="762120"/>
            <a:ext cx="2019600" cy="17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-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Who owns the site?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easywhoi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martinlutherking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torm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ww.harrypotter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www.globalwarming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ational Consumer Coal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4" descr="Research_graphic"/>
          <p:cNvPicPr/>
          <p:nvPr/>
        </p:nvPicPr>
        <p:blipFill>
          <a:blip r:embed="rId6"/>
          <a:stretch/>
        </p:blipFill>
        <p:spPr>
          <a:xfrm>
            <a:off x="6172200" y="304920"/>
            <a:ext cx="2666880" cy="22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Why is it import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nternet is becoming #1 source fo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vailable information growing exponenti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eed to teach students how to research eff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eed to be able to determine qualit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4" descr="Research_graphic"/>
          <p:cNvPicPr/>
          <p:nvPr/>
        </p:nvPicPr>
        <p:blipFill>
          <a:blip r:embed="rId2"/>
          <a:stretch/>
        </p:blipFill>
        <p:spPr>
          <a:xfrm>
            <a:off x="152280" y="380880"/>
            <a:ext cx="1486080" cy="1279800"/>
          </a:xfrm>
          <a:prstGeom prst="rect">
            <a:avLst/>
          </a:prstGeom>
          <a:ln w="0">
            <a:noFill/>
          </a:ln>
        </p:spPr>
      </p:pic>
      <p:sp>
        <p:nvSpPr>
          <p:cNvPr id="504" name="AutoShape 6">
            <a:hlinkClick r:id="rId3" action="ppaction://hlinksldjump"/>
          </p:cNvPr>
          <p:cNvSpPr/>
          <p:nvPr/>
        </p:nvSpPr>
        <p:spPr>
          <a:xfrm>
            <a:off x="914400" y="3124080"/>
            <a:ext cx="5486400" cy="914400"/>
          </a:xfrm>
          <a:custGeom>
            <a:avLst/>
            <a:gdLst>
              <a:gd name="textAreaLeft" fmla="*/ 59040 w 5486400"/>
              <a:gd name="textAreaRight" fmla="*/ 5427360 w 5486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9557" h="21600">
                <a:moveTo>
                  <a:pt x="0" y="0"/>
                </a:moveTo>
                <a:lnTo>
                  <a:pt x="129557" y="0"/>
                </a:lnTo>
                <a:lnTo>
                  <a:pt x="129557" y="21600"/>
                </a:lnTo>
                <a:lnTo>
                  <a:pt x="0" y="21600"/>
                </a:lnTo>
                <a:close/>
              </a:path>
              <a:path fill="lightenLess" w="129557" h="21600">
                <a:moveTo>
                  <a:pt x="0" y="0"/>
                </a:moveTo>
                <a:lnTo>
                  <a:pt x="129557" y="0"/>
                </a:lnTo>
                <a:lnTo>
                  <a:pt x="128158" y="1400"/>
                </a:lnTo>
                <a:lnTo>
                  <a:pt x="1400" y="1400"/>
                </a:lnTo>
                <a:close/>
              </a:path>
              <a:path fill="darken" w="129557" h="21600">
                <a:moveTo>
                  <a:pt x="129557" y="0"/>
                </a:moveTo>
                <a:lnTo>
                  <a:pt x="129557" y="21600"/>
                </a:lnTo>
                <a:lnTo>
                  <a:pt x="128158" y="20200"/>
                </a:lnTo>
                <a:lnTo>
                  <a:pt x="128158" y="1400"/>
                </a:lnTo>
                <a:close/>
              </a:path>
              <a:path fill="darkenLess" w="129557" h="21600">
                <a:moveTo>
                  <a:pt x="129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58" y="20200"/>
                </a:lnTo>
                <a:close/>
              </a:path>
              <a:path fill="lighten" w="129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7">
            <a:hlinkClick r:id="rId4" action="ppaction://hlinksldjump"/>
          </p:cNvPr>
          <p:cNvSpPr/>
          <p:nvPr/>
        </p:nvSpPr>
        <p:spPr>
          <a:xfrm>
            <a:off x="7772400" y="647712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2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2" y="20200"/>
                </a:lnTo>
                <a:lnTo>
                  <a:pt x="76332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2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History of a Site</a:t>
            </a: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371240" y="236232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archive.org/web/web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Research_graphic"/>
          <p:cNvPicPr/>
          <p:nvPr/>
        </p:nvPicPr>
        <p:blipFill>
          <a:blip r:embed="rId3"/>
          <a:stretch/>
        </p:blipFill>
        <p:spPr>
          <a:xfrm>
            <a:off x="6095880" y="4114800"/>
            <a:ext cx="2781360" cy="23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Using the Information</a:t>
            </a:r>
            <a:br>
              <a:rPr sz="4400"/>
            </a:b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(note tak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257440" y="2514600"/>
            <a:ext cx="2971800" cy="3733920"/>
          </a:xfrm>
          <a:prstGeom prst="rect">
            <a:avLst/>
          </a:prstGeom>
          <a:noFill/>
          <a:ln w="57240">
            <a:solidFill>
              <a:srgbClr val="800040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ote c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ut-&amp;-P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lor co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3 column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rnell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teractive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838080" y="2286000"/>
            <a:ext cx="3505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nking too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ased on the source, purpose and us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itations document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6" descr="Research_graphic"/>
          <p:cNvPicPr/>
          <p:nvPr/>
        </p:nvPicPr>
        <p:blipFill>
          <a:blip r:embed="rId2"/>
          <a:stretch/>
        </p:blipFill>
        <p:spPr>
          <a:xfrm>
            <a:off x="6477120" y="228600"/>
            <a:ext cx="228600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APA Format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8762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egis site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regis.edu/content/lib/pdf/lib.handouts.APAcitationstyle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 Purdue On-line Writing Lab (OWL)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owl.english.purdue.edu/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oodletools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noodletool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on of Citation Machine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http://citationmachine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4" descr="Research_graphic"/>
          <p:cNvPicPr/>
          <p:nvPr/>
        </p:nvPicPr>
        <p:blipFill>
          <a:blip r:embed="rId2"/>
          <a:stretch/>
        </p:blipFill>
        <p:spPr>
          <a:xfrm>
            <a:off x="228600" y="228600"/>
            <a:ext cx="228600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809520" y="2514600"/>
            <a:ext cx="49532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lide Show / Mov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raphics and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4" descr="Research_graphic"/>
          <p:cNvPicPr/>
          <p:nvPr/>
        </p:nvPicPr>
        <p:blipFill>
          <a:blip r:embed="rId2"/>
          <a:stretch/>
        </p:blipFill>
        <p:spPr>
          <a:xfrm>
            <a:off x="685800" y="2209680"/>
            <a:ext cx="2895480" cy="24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ow do you feel about your pro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rammar, spelling, 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lf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eer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Rubric -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Did project answer the tas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urnitin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turnitin.com/static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4" descr="Research_graphic"/>
          <p:cNvPicPr/>
          <p:nvPr/>
        </p:nvPicPr>
        <p:blipFill>
          <a:blip r:embed="rId2"/>
          <a:stretch/>
        </p:blipFill>
        <p:spPr>
          <a:xfrm>
            <a:off x="6400800" y="228600"/>
            <a:ext cx="2590920" cy="223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1000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44000" indent="-1440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id you respect intellectual proper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o you have a bibliography with diverse sour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id you use in-text citations when paraphra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id you collaborate effectively with oth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pyright Law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benedict.com/Info/Info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tiquette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albion.com/netiquett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Research_graphic"/>
          <p:cNvPicPr/>
          <p:nvPr/>
        </p:nvPicPr>
        <p:blipFill>
          <a:blip r:embed="rId2"/>
          <a:stretch/>
        </p:blipFill>
        <p:spPr>
          <a:xfrm>
            <a:off x="6705720" y="4800600"/>
            <a:ext cx="22096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ning, A. B. (2006, October 16). An Introduction:Big6 Information Problem Solving with Technology.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Big6 Overvi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Retrieved March 13, 2007, from Big6 Associates Web site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big6.com/showarticle.php?id=1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hen, L. (2007, February 7). Checklist of Internet Research Tips.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ternet Tutoria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Retrieved March 15, 2007, from University at Albany, SUNY Web site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internettutorials.net/checklis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hen, L. (2007, March 9). Search Engines.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ternet Tutoria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Retrieved March 15, 2007, from University at Albany, SUNY Web site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internettutorials.net/engine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isenberg, M., &amp; Berkowitz, B. (2007, March 12)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Big 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Retrieved March 13, 2007, from Big6 Associates Web site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tp://big6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odletools. (2004, July 7). (APA) How do I write an APA parenthetical (in-text) reference? [Knowledge Base: Article 52]. Message posted to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noodletools.com/kb/index.php?article=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Consider th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3"/>
          <p:cNvSpPr/>
          <p:nvPr/>
        </p:nvSpPr>
        <p:spPr>
          <a:xfrm>
            <a:off x="609480" y="1905120"/>
            <a:ext cx="815364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 Engine Results: 2,690,000 h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could examine each site in 5 minutes, in order to complete this research (without stopping for food or rest) it would take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4,167   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r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9,343   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r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1,334   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r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25.6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lculated by Fr. Don Highberger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gis University For Professional Studi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mmunications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40"/>
                </a:solidFill>
                <a:latin typeface="Arial Rounded MT Bold"/>
              </a:rPr>
              <a:t>Informa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4000" spc="-1" strike="noStrike">
                <a:solidFill>
                  <a:srgbClr val="800040"/>
                </a:solidFill>
                <a:latin typeface="Arial Rounded MT Bold"/>
              </a:rPr>
              <a:t>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nformation stored on paper, film, optical, and magnetic  media totals about 5 EB of new information each yea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w information communicated through electronic information flows - telephone, radio, TV, and the Internet is about 17.7 EB each ye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Volume of information on the public Web at 20 to 50 TB in 2002, ... In 2003 - 167 T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2.sims.berkeley.edu/research/projects/how-much-info-2003/execsum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">
            <a:hlinkClick r:id="rId3" action="ppaction://hlinksldjump"/>
          </p:cNvPr>
          <p:cNvSpPr/>
          <p:nvPr/>
        </p:nvSpPr>
        <p:spPr>
          <a:xfrm>
            <a:off x="7924680" y="6553080"/>
            <a:ext cx="1219320" cy="304920"/>
          </a:xfrm>
          <a:custGeom>
            <a:avLst/>
            <a:gdLst>
              <a:gd name="textAreaLeft" fmla="*/ 19440 w 1219320"/>
              <a:gd name="textAreaRight" fmla="*/ 1199880 w 1219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7">
            <a:hlinkClick r:id="rId4" action="ppaction://hlinksldjump"/>
          </p:cNvPr>
          <p:cNvSpPr/>
          <p:nvPr/>
        </p:nvSpPr>
        <p:spPr>
          <a:xfrm>
            <a:off x="0" y="6553080"/>
            <a:ext cx="1219320" cy="304920"/>
          </a:xfrm>
          <a:custGeom>
            <a:avLst/>
            <a:gdLst>
              <a:gd name="textAreaLeft" fmla="*/ 19440 w 1219320"/>
              <a:gd name="textAreaRight" fmla="*/ 1199880 w 1219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4" descr="HowBig"/>
          <p:cNvPicPr/>
          <p:nvPr/>
        </p:nvPicPr>
        <p:blipFill>
          <a:blip r:embed="rId2"/>
          <a:stretch/>
        </p:blipFill>
        <p:spPr>
          <a:xfrm>
            <a:off x="-2286000" y="-1371600"/>
            <a:ext cx="14046120" cy="10642680"/>
          </a:xfrm>
          <a:prstGeom prst="rect">
            <a:avLst/>
          </a:prstGeom>
          <a:ln w="0">
            <a:noFill/>
          </a:ln>
        </p:spPr>
      </p:pic>
      <p:sp>
        <p:nvSpPr>
          <p:cNvPr id="515" name="AutoShape 5">
            <a:hlinkClick r:id="" action="ppaction://hlinkshowjump?jump=previousslide"/>
          </p:cNvPr>
          <p:cNvSpPr/>
          <p:nvPr/>
        </p:nvSpPr>
        <p:spPr>
          <a:xfrm>
            <a:off x="8077320" y="64771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Search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39621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egis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-Search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 Big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Research_graphic"/>
          <p:cNvPicPr/>
          <p:nvPr/>
        </p:nvPicPr>
        <p:blipFill>
          <a:blip r:embed="rId2"/>
          <a:stretch/>
        </p:blipFill>
        <p:spPr>
          <a:xfrm>
            <a:off x="5257800" y="2362320"/>
            <a:ext cx="2933640" cy="25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Regis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Getting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Effective search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nding books and other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nding periodical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ritically evaluat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Research_graphic"/>
          <p:cNvPicPr/>
          <p:nvPr/>
        </p:nvPicPr>
        <p:blipFill>
          <a:blip r:embed="rId2"/>
          <a:stretch/>
        </p:blipFill>
        <p:spPr>
          <a:xfrm>
            <a:off x="7010280" y="304920"/>
            <a:ext cx="1866960" cy="16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I-Search Model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(Ken Macror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quiry-based research process to actively involv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4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mmersion in a topic and generating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veloping a search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athering &amp; integra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resent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Research_graphic"/>
          <p:cNvPicPr/>
          <p:nvPr/>
        </p:nvPicPr>
        <p:blipFill>
          <a:blip r:embed="rId2"/>
          <a:stretch/>
        </p:blipFill>
        <p:spPr>
          <a:xfrm>
            <a:off x="7010280" y="228600"/>
            <a:ext cx="1866960" cy="160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The Big 6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(Mike Eisenberg &amp; Bob Berkowit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6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ask Defin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formation Seek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Location &amp;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se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ot necessary to complete these steps in linear 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1028" descr="Research_graphic"/>
          <p:cNvPicPr/>
          <p:nvPr/>
        </p:nvPicPr>
        <p:blipFill>
          <a:blip r:embed="rId2"/>
          <a:stretch/>
        </p:blipFill>
        <p:spPr>
          <a:xfrm>
            <a:off x="6934320" y="304920"/>
            <a:ext cx="2019240" cy="17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00:32:10Z</dcterms:created>
  <dc:creator>B Rogers</dc:creator>
  <dc:description/>
  <dc:language>en-US</dc:language>
  <cp:lastModifiedBy>B Rogers</cp:lastModifiedBy>
  <cp:lastPrinted>2008-05-02T16:11:16Z</cp:lastPrinted>
  <dcterms:modified xsi:type="dcterms:W3CDTF">2010-01-16T15:16:45Z</dcterms:modified>
  <cp:revision>35</cp:revision>
  <dc:subject/>
  <dc:title>Effective Research</dc:title>
</cp:coreProperties>
</file>