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D44E5-7F40-43D2-9E25-4F111D7080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A5E28-02BB-45CA-92C9-C6C6B0AF9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73C69-29B0-4910-A1F6-BD4001F04D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47097-BE0A-460F-867C-9A61F6831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E8833-3E7F-478C-9E8D-9E229D42F6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FE2C0-3F5F-4D84-9664-F4393104F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79560-3FB1-4BA2-B698-875A90DD6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7DE2E-9B1A-4620-BDE7-AD3DFFAF6F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E7F55-A20D-4215-AB09-8F7193F58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F0196-88EB-494A-AA10-0FEC556C9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A47BB-41B7-4204-A35C-35916D493E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0EA7D-EF01-404A-9F16-864001B84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FAF69-C96B-4B2A-BCEE-2DCDA151D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01C01-FF9B-4CEA-88AE-410A47A3CA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5B5CA-D662-4B06-BF55-80065F5F0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EDD65-72B5-4DC0-93E4-2A59584C5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70AE9-9D90-4541-9FF4-FAD511202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B5454-E172-44FD-A89B-3FCF37F86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068A0-6AAC-4914-9326-D17F30B46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021D4-A435-47AF-B2B4-2C9B8474C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81158-F9CF-4725-8D0B-F268046D2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45E0D-317B-410D-8BED-51E4F4A7E3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C7B33-CC56-48EC-AEF5-3D27839B6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9A155-E172-40CC-919A-37AEC6C73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96389-AC0E-414A-BA0F-DAC01FC5D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94E0D-292D-4116-B83F-CA5DA70E5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89B72-CE9B-4A65-8E02-404E5BDF94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7AF9-C1F3-410F-A794-0496F6D6C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9B82-BCC6-4F57-A5DC-32E640082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E86642-C46B-406F-BAAF-AD9ADC8DC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726D51-7327-420B-85D9-8C71846B9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788CDA-F234-4DD7-8A74-A54D2ECDB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EE69A1-8C05-4F9B-9351-C1EEB560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FD5C56-92D1-492A-AA34-E0FF82A3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80A416-FBF7-4C80-8D6C-B0C8B085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B99BD1-CC01-4235-8A6D-C3A17B767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5294F4-D3F4-45E8-B6BC-ACF8F7A83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981935-032D-4D8B-A905-AB867390F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9587DD-23E3-4969-9843-F9ACFFDAE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1AA8-CA2E-4E84-BD14-3A7C62992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46EBC4-B3D0-4C93-B894-4E21BAF6D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E1D41F-10A4-4A75-86B2-FBA3D2F62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81DB7C-0E45-4EA0-910A-E7DD0A78B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682016-3D96-425C-A12A-28F7BCA3D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461BF9-AD73-45CF-8C0E-D66502DB2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6C7BBB-F53F-44F2-AC59-E3FBAEF8B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B6198B-7319-4562-8504-BA97497F2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E40E31-4168-4332-8490-411D4DB79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BE5468-D6F4-416A-8E50-FF00699D2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094099-5506-4FE4-8DCE-4445F2850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85A2-3BC8-4CBF-B386-DA2578F04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F83F75-2A03-4FDC-BEAD-1D77E60C9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BBBE8A-A556-4B91-AE4A-3B758D93E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D6023C-49D6-4BB6-89D8-B1883549A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A9BF76-2D75-4A38-85D0-99A003884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AFBDD7-55B6-4FFE-8C16-59E2D283D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1673B2-E934-4564-BF25-D2260D729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0C07E9-A324-414B-B4DD-2880733DA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5119ED-B628-4E7E-9E2D-2663F13CC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468E48-975B-4B2E-AD28-3714018BA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D9F719-457F-4FB1-BBCA-E368BD7B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B770A-8BDC-49FE-9DD2-5B6AEF2E3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2714D5-7EDE-4739-81BC-D6A6B040A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78F238-B2C6-4750-B9E8-061BCF402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4783C5-69F0-4964-812A-522DD40F0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7645C2-26B1-425D-84D6-3DB303C1E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4681A9-5241-4589-BB65-143B11E46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5B023B-1366-47B3-B1A8-442163AA9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67D3ED-36A7-45F6-ACEB-312848569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FCAB73-E6C9-40FE-9D97-7D252278A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FCF536-3F4A-45F0-806E-0B2DE989C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0C63F5-336D-4C7B-A084-D233CB85A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21AD5-4299-4763-82BD-AF0DD8A21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231A5D-7BB5-467D-9CB3-08E6BB10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98A81D-7A08-4730-AF8C-4D5CB415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9E25BC-2848-4318-A5A4-33F4B9E1F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0FA1FC-7E14-458A-896A-AB09ADD84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945A71-C6F8-4DF4-B52B-3F7CF5A30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37BB2-CB0D-427B-ACF1-7CD47AC7B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E93C5-BB1B-4118-9488-6D915A29D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A66EE-41B9-4164-83ED-0E7E461E9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77811-86B7-4D0F-8433-2D90D99F9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E9D2F-F3E9-4C61-BE3F-4EE2E00F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4E25-3C01-45D2-9DEA-DE7A5EC07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C8A43-3FA3-4BD9-9565-941E862C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6CC15-71C9-42C8-9326-B5DE6F671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B4961-AEA8-4CA0-8327-9CCC79D6C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234F0-ECAC-46A8-AF22-984613112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AF236-7974-4FD8-BA3A-408EB349D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8CF8E-F84F-4502-94AC-1FD3057E5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D31B9-C8A3-459A-BFB3-6EF584824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48A6C-E849-48D3-8633-F86A067C3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A2547-A9C7-4E21-87BD-A72E01551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F16AD-F51A-4784-8B11-D3190329F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FF9E-63F9-4DD6-A22B-B54AB1E74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66AFC-7A5B-4F59-90FE-5A46E2896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A22CD-7412-4DAF-ADFD-38E7937B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39AE1-A6A8-48E6-AA9E-CA08B0DD9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A5B1C-26F3-4FF4-9783-55A5C7F0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6E741-2F8C-4D46-AA6A-494E6CEFA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30F99-98ED-4FA5-8FAD-C4DBFC3AC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06E1D-9DF3-41B1-A95A-1BFE432C3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74826-C2D3-4B44-8B1C-FFD29ADB3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A205D-2311-4913-B2B6-50103DD3B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CB549-60B4-447A-9EAF-99F374C97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95AD-F1E9-4A01-AC3D-8F3B3B043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43F39-292C-439F-A8BB-3FE221E4A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33F5D-DF8E-4903-BD0F-AF814FC55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ABAD1-39FC-4BBA-A9DD-DD2478628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D0975-98B3-41FB-AFA1-AA042DD5C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C21E6-3FAC-4DF6-9B04-7823FFFE9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ECC94-E088-459A-A3A9-1032330B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4B973-1CC3-47AD-B641-DEE5EC1EB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8C099-10EC-47DD-AF35-D39CFEDF7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247B1-90D6-4A1A-9116-1E5368607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346771-40C5-441D-9C8C-ACB77FCA9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F763-4B45-4786-AAA8-A98271870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F4466-B650-49F7-B2D2-515724B1F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371A3-117E-48F6-A447-C2D0DB2A1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D07AC-BE84-4535-A782-0D52A71A9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BC99B-B75E-40FA-B19D-271355BAB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C7F149-F348-4580-B38C-D1727AF10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92403-7425-4C3B-9641-135DB0C6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3FC943-54B1-469C-9A5A-04766125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1DF519-AC2E-411F-820A-83BEBD11E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647A7-9DC4-43F4-ABB9-8E2B72D0C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9113F-8FA9-4349-9718-E1CBCB872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CCA0-5094-4AA7-B529-38F1E4C4D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424A2-C932-4FF4-B377-D69DF36D2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82E9D5-D410-49F6-8A70-1A987507E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E3395F-9870-49B4-A8BE-05FED5F25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498AC2-B6BD-4A32-B852-155EEB6A8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BF54F7-30D6-49AE-B7DD-4376FE4C8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E7DFC0-21BA-419A-8053-AC6A74452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3C595E-5AE4-4B98-9022-DFFDB23F5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E43A31-D504-4003-A6AD-50F6A008D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93391E-1501-4A51-946C-C29379C8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4ADD5F-DC5A-4205-945B-758309781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5F62-F405-4BFF-970E-B3021962A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09DC2D-D908-4126-8AC1-F9F01BDC6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18C88-8366-4D5F-BAB9-AA552E899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C596FA-3E7C-464C-A2C6-B08421B94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300EBC-B411-4D1E-8857-3D9598CB5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70E6C1-CA6E-4074-9AF9-3C23E0A7F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46114D-9F25-407B-A6B4-F2A049352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86DC87-3048-4F26-BD4C-FB9292A34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CA937E-107A-4580-BD8A-52DCEA168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3F1402-20E2-482E-8195-AF02434FA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E165C2-99C1-4930-B2C8-BF23B491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651D-18F6-4088-B61D-AE1E3746D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C692CB-0D7C-4277-BCAA-C34C7535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AC7A1D-AB97-4E30-91E1-3E03CF49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541100-2471-4CAA-831F-B31E2D0FB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93D16B-08A1-4B19-B591-84BF97C50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542846-58B0-4288-8C68-49623E860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49A108-93BB-440B-B105-575FB1349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0178F1-7C43-45E3-BF29-D50578F6F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B55C36-2FDA-4471-A222-6DF916775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1D975A-F9A7-4454-BA31-D6ADE28FF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A419C5-2712-4B2D-89F2-F95838590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9C66-F168-4342-90F5-21401A71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BF72CD-5F31-438D-ACF8-6CA5E676A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E0F034-CA98-4647-8C63-3F55EB97D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02AF99-6D11-4F5D-BA53-AA75821D4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16FB2F-6542-457C-B263-0D08AE2D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90F6B8-0E07-47D0-AB9A-A149E56EF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72F9DC-1F63-49D5-ACA5-E116BD0D0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296E03-F9BA-4DAA-967F-78F8EE3CD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C0777B-5241-4879-BC4E-C2EC38536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6DEEBA-2527-490D-B7D9-696DA54EC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3C35C0-6389-4D4A-933B-716212196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EBF5F-44F2-4C35-8643-8CF0C40C8A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7F3F1-3CCA-451C-AFC1-0145DF6EC9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78F6F-30B7-42BB-A0F8-B79B38FEFD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164DC-0C94-411F-BA09-0585C83938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96B5E-AA7C-4A7F-9AAE-6E841B4F8A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2094E-7216-4E79-B775-D9105806C9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80B47-7BD1-4DA2-8AF4-1BB9234F2B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E71BB-EA95-410A-9281-8907B688EC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9D5B9-4637-4399-8643-964441F108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FE25C-B84B-4759-9C59-F2766196F0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0323F-5A30-4085-AC0D-7D4CD3BD51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5AEBB-FB09-4EAC-933F-887BB13E0A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lii.org/" TargetMode="External"/><Relationship Id="rId3" Type="http://schemas.openxmlformats.org/officeDocument/2006/relationships/hyperlink" Target="http://infomine.ucr.edu/" TargetMode="External"/><Relationship Id="rId4" Type="http://schemas.openxmlformats.org/officeDocument/2006/relationships/hyperlink" Target="http://www.academicinfo.us/" TargetMode="External"/><Relationship Id="rId5" Type="http://schemas.openxmlformats.org/officeDocument/2006/relationships/hyperlink" Target="http://dir.yahoo.com/" TargetMode="External"/><Relationship Id="rId6" Type="http://schemas.openxmlformats.org/officeDocument/2006/relationships/hyperlink" Target="http://directory.google.com/" TargetMode="External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eb.archive.org/web/20041012180151/pubweb.northwestern.edu/~abutz/di/intro.html" TargetMode="External"/><Relationship Id="rId3" Type="http://schemas.openxmlformats.org/officeDocument/2006/relationships/hyperlink" Target="http://www.seas.upenn.edu/~udani/personals.html" TargetMode="External"/><Relationship Id="rId4" Type="http://schemas.openxmlformats.org/officeDocument/2006/relationships/hyperlink" Target="http://pages.yahoo.com/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regis.edu/library.htm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oogle.com/" TargetMode="External"/><Relationship Id="rId3" Type="http://schemas.openxmlformats.org/officeDocument/2006/relationships/hyperlink" Target="http://scholar.google.com/" TargetMode="External"/><Relationship Id="rId4" Type="http://schemas.openxmlformats.org/officeDocument/2006/relationships/hyperlink" Target="http://www.clusty.com/" TargetMode="External"/><Relationship Id="rId5" Type="http://schemas.openxmlformats.org/officeDocument/2006/relationships/hyperlink" Target="http://ask.com/" TargetMode="External"/><Relationship Id="rId6" Type="http://schemas.openxmlformats.org/officeDocument/2006/relationships/hyperlink" Target="http://search.yahoo.com/" TargetMode="External"/><Relationship Id="rId7" Type="http://schemas.openxmlformats.org/officeDocument/2006/relationships/hyperlink" Target="http://prospector.coalliance.org/" TargetMode="External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internettutorials.net/started.html" TargetMode="External"/><Relationship Id="rId3" Type="http://schemas.openxmlformats.org/officeDocument/2006/relationships/hyperlink" Target="http://www.cyward.com/speciali.htm" TargetMode="External"/><Relationship Id="rId4" Type="http://schemas.openxmlformats.org/officeDocument/2006/relationships/hyperlink" Target="http://webquest.sdsu.edu/searching/specialized.html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asywhois.com/" TargetMode="External"/><Relationship Id="rId3" Type="http://schemas.openxmlformats.org/officeDocument/2006/relationships/hyperlink" Target="http://www.martinlutherking.org/" TargetMode="External"/><Relationship Id="rId4" Type="http://schemas.openxmlformats.org/officeDocument/2006/relationships/hyperlink" Target="http://www.harrypotter.com/" TargetMode="External"/><Relationship Id="rId5" Type="http://schemas.openxmlformats.org/officeDocument/2006/relationships/hyperlink" Target="http://www.globalwarming.org/" TargetMode="Externa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rchive.org/web/web.php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2.sims.berkeley.edu/research/projects/how-much-info-2003/execsum.htm" TargetMode="External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5410440" cy="464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800040"/>
                </a:solidFill>
                <a:latin typeface="Arial Rounded MT Bold"/>
              </a:rPr>
              <a:t>Effective Research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5" descr="Research_graphic"/>
          <p:cNvPicPr/>
          <p:nvPr/>
        </p:nvPicPr>
        <p:blipFill>
          <a:blip r:embed="rId2"/>
          <a:stretch/>
        </p:blipFill>
        <p:spPr>
          <a:xfrm>
            <a:off x="4114800" y="228600"/>
            <a:ext cx="5029200" cy="601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Task / Top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9072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What questions do you h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What do you know alread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What do you need to find ou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What type of information is nee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4" descr="Research_graphic"/>
          <p:cNvPicPr/>
          <p:nvPr/>
        </p:nvPicPr>
        <p:blipFill>
          <a:blip r:embed="rId2"/>
          <a:stretch/>
        </p:blipFill>
        <p:spPr>
          <a:xfrm>
            <a:off x="0" y="228600"/>
            <a:ext cx="2438280" cy="210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10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" dur="1000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" dur="1000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1000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Search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752480" y="190512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Identify keywords &amp; phr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Nouns &amp; ad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4 – 6 words for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Use thesau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Use View option in the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Using advanc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Using + or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4" descr="Research_graphic"/>
          <p:cNvPicPr/>
          <p:nvPr/>
        </p:nvPicPr>
        <p:blipFill>
          <a:blip r:embed="rId2"/>
          <a:stretch/>
        </p:blipFill>
        <p:spPr>
          <a:xfrm>
            <a:off x="152280" y="304920"/>
            <a:ext cx="1828800" cy="165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9" dur="10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" dur="1000"/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0" dur="1000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Subject Directories</a:t>
            </a: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Librarians’ Index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www.lii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Infomine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http://infomine.ucr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Academic Info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http://www.academicinfo.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Yahoo Directory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http://dir.yahoo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Google Directory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http://directory.google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4" descr="Research_graphic"/>
          <p:cNvPicPr/>
          <p:nvPr/>
        </p:nvPicPr>
        <p:blipFill>
          <a:blip r:embed="rId7"/>
          <a:stretch/>
        </p:blipFill>
        <p:spPr>
          <a:xfrm>
            <a:off x="152280" y="380880"/>
            <a:ext cx="1676520" cy="144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361960" y="9140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Locating and Accessing the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33520" y="32004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Locate the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Find the information within the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Evaluate the accuracy of the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4" descr="Research_graphic"/>
          <p:cNvPicPr/>
          <p:nvPr/>
        </p:nvPicPr>
        <p:blipFill>
          <a:blip r:embed="rId2"/>
          <a:stretch/>
        </p:blipFill>
        <p:spPr>
          <a:xfrm>
            <a:off x="685800" y="533520"/>
            <a:ext cx="2362320" cy="203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10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6" dur="10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3" dur="10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Exten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2" marL="1085760" indent="-217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.edu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Educational organization (most US universi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.k12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US school site (not all US schools use th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.ac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Academic institution (outside of 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.sch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School site (outside of the 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.com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Company (usually .co in the U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.org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Any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.gov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Government ag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.net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.mil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Military instit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New extensions to look for are .biz, .name, .pro, .info. All are used for commercial purpo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4" descr="Research_graphic"/>
          <p:cNvPicPr/>
          <p:nvPr/>
        </p:nvPicPr>
        <p:blipFill>
          <a:blip r:embed="rId2"/>
          <a:stretch/>
        </p:blipFill>
        <p:spPr>
          <a:xfrm>
            <a:off x="457200" y="380880"/>
            <a:ext cx="1790640" cy="154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Personal sites (~)</a:t>
            </a: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pubweb.northwestern.edu/~abutz/di/intro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This site is a Holocaust Revisionist site that argues that the Holocaust did not take place.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http://www.seas.upenn.edu/~udani/personals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Contains links to free personal/singles pa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Geocities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http://pages.yahoo.com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1028" descr="Research_graphic"/>
          <p:cNvPicPr/>
          <p:nvPr/>
        </p:nvPicPr>
        <p:blipFill>
          <a:blip r:embed="rId5"/>
          <a:stretch/>
        </p:blipFill>
        <p:spPr>
          <a:xfrm>
            <a:off x="6819840" y="4856040"/>
            <a:ext cx="2324160" cy="200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2" dur="10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7" dur="10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4" dur="1000"/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9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6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Regis On-line Library &amp; Databas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371240" y="2895480"/>
            <a:ext cx="65530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www.regis.edu/library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4" descr="Research_graphic"/>
          <p:cNvPicPr/>
          <p:nvPr/>
        </p:nvPicPr>
        <p:blipFill>
          <a:blip r:embed="rId3"/>
          <a:stretch/>
        </p:blipFill>
        <p:spPr>
          <a:xfrm>
            <a:off x="5943600" y="4087800"/>
            <a:ext cx="2933640" cy="252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Other Search Eng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8610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Goog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www.google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Google Schol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http://scholar.googl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Clus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http://www.clusty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http://ask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Yahoo Sear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http://search.yahoo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Search Prospe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http://prospector.coalliance.or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4" descr="Research_graphic"/>
          <p:cNvPicPr/>
          <p:nvPr/>
        </p:nvPicPr>
        <p:blipFill>
          <a:blip r:embed="rId8"/>
          <a:stretch/>
        </p:blipFill>
        <p:spPr>
          <a:xfrm>
            <a:off x="7162920" y="5181480"/>
            <a:ext cx="1714320" cy="143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Still Not Su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Internet Tutoria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www.internettutorials.net/started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yward Internet Education: Search Engines &amp; Specialized Dir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http://www.cyward.com/speciali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pecialized Search Engines &amp; Director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http://webquest.sdsu.edu/searching/specialized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4" descr="Research_graphic"/>
          <p:cNvPicPr/>
          <p:nvPr/>
        </p:nvPicPr>
        <p:blipFill>
          <a:blip r:embed="rId5"/>
          <a:stretch/>
        </p:blipFill>
        <p:spPr>
          <a:xfrm>
            <a:off x="6781680" y="762120"/>
            <a:ext cx="2019600" cy="173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-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Who owns the site?</a:t>
            </a: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www.easywhois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http://www.martinlutherking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Stormfro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http://www.harrypotter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So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http://www.globalwarming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National Consumer Coal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4" descr="Research_graphic"/>
          <p:cNvPicPr/>
          <p:nvPr/>
        </p:nvPicPr>
        <p:blipFill>
          <a:blip r:embed="rId6"/>
          <a:stretch/>
        </p:blipFill>
        <p:spPr>
          <a:xfrm>
            <a:off x="6172200" y="304920"/>
            <a:ext cx="2666880" cy="229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5" dur="100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5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5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2" dur="1000"/>
                                        <p:tgtEl>
                                          <p:spTgt spid="5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6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3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0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7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Why is it importa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315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Internet is becoming #1 source for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Available information growing exponenti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Need to teach students how to research effectiv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Need to be able to determine quality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Picture 4" descr="Research_graphic"/>
          <p:cNvPicPr/>
          <p:nvPr/>
        </p:nvPicPr>
        <p:blipFill>
          <a:blip r:embed="rId2"/>
          <a:stretch/>
        </p:blipFill>
        <p:spPr>
          <a:xfrm>
            <a:off x="152280" y="380880"/>
            <a:ext cx="1486080" cy="1279800"/>
          </a:xfrm>
          <a:prstGeom prst="rect">
            <a:avLst/>
          </a:prstGeom>
          <a:ln w="0">
            <a:noFill/>
          </a:ln>
        </p:spPr>
      </p:pic>
      <p:sp>
        <p:nvSpPr>
          <p:cNvPr id="504" name="AutoShape 6">
            <a:hlinkClick r:id="rId3" action="ppaction://hlinksldjump"/>
          </p:cNvPr>
          <p:cNvSpPr/>
          <p:nvPr/>
        </p:nvSpPr>
        <p:spPr>
          <a:xfrm>
            <a:off x="914400" y="3124080"/>
            <a:ext cx="5486400" cy="914400"/>
          </a:xfrm>
          <a:custGeom>
            <a:avLst/>
            <a:gdLst>
              <a:gd name="textAreaLeft" fmla="*/ 59040 w 5486400"/>
              <a:gd name="textAreaRight" fmla="*/ 5427360 w 5486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129557" h="21600">
                <a:moveTo>
                  <a:pt x="0" y="0"/>
                </a:moveTo>
                <a:lnTo>
                  <a:pt x="129557" y="0"/>
                </a:lnTo>
                <a:lnTo>
                  <a:pt x="129557" y="21600"/>
                </a:lnTo>
                <a:lnTo>
                  <a:pt x="0" y="21600"/>
                </a:lnTo>
                <a:close/>
              </a:path>
              <a:path fill="lightenLess" w="129557" h="21600">
                <a:moveTo>
                  <a:pt x="0" y="0"/>
                </a:moveTo>
                <a:lnTo>
                  <a:pt x="129557" y="0"/>
                </a:lnTo>
                <a:lnTo>
                  <a:pt x="128158" y="1400"/>
                </a:lnTo>
                <a:lnTo>
                  <a:pt x="1400" y="1400"/>
                </a:lnTo>
                <a:close/>
              </a:path>
              <a:path fill="darken" w="129557" h="21600">
                <a:moveTo>
                  <a:pt x="129557" y="0"/>
                </a:moveTo>
                <a:lnTo>
                  <a:pt x="129557" y="21600"/>
                </a:lnTo>
                <a:lnTo>
                  <a:pt x="128158" y="20200"/>
                </a:lnTo>
                <a:lnTo>
                  <a:pt x="128158" y="1400"/>
                </a:lnTo>
                <a:close/>
              </a:path>
              <a:path fill="darkenLess" w="129557" h="21600">
                <a:moveTo>
                  <a:pt x="1295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58" y="20200"/>
                </a:lnTo>
                <a:close/>
              </a:path>
              <a:path fill="lighten" w="1295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7">
            <a:hlinkClick r:id="rId4" action="ppaction://hlinksldjump"/>
          </p:cNvPr>
          <p:cNvSpPr/>
          <p:nvPr/>
        </p:nvSpPr>
        <p:spPr>
          <a:xfrm>
            <a:off x="7772400" y="6477120"/>
            <a:ext cx="1371600" cy="380880"/>
          </a:xfrm>
          <a:custGeom>
            <a:avLst/>
            <a:gdLst>
              <a:gd name="textAreaLeft" fmla="*/ 24480 w 1371600"/>
              <a:gd name="textAreaRight" fmla="*/ 1347120 w 13716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6332" y="1400"/>
                </a:lnTo>
                <a:lnTo>
                  <a:pt x="1400" y="140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6332" y="20200"/>
                </a:lnTo>
                <a:lnTo>
                  <a:pt x="76332" y="140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332" y="2020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History of a Site</a:t>
            </a: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371240" y="236232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www.archive.org/web/web.ph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4" descr="Research_graphic"/>
          <p:cNvPicPr/>
          <p:nvPr/>
        </p:nvPicPr>
        <p:blipFill>
          <a:blip r:embed="rId3"/>
          <a:stretch/>
        </p:blipFill>
        <p:spPr>
          <a:xfrm>
            <a:off x="6095880" y="4114800"/>
            <a:ext cx="2781360" cy="239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6172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Using the Information</a:t>
            </a:r>
            <a:br>
              <a:rPr sz="4400"/>
            </a:b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(note takin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257440" y="2514600"/>
            <a:ext cx="2971800" cy="3733920"/>
          </a:xfrm>
          <a:prstGeom prst="rect">
            <a:avLst/>
          </a:prstGeom>
          <a:noFill/>
          <a:ln w="57240">
            <a:solidFill>
              <a:srgbClr val="800040"/>
            </a:solidFill>
            <a:prstDash val="sysDot"/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Note car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Cut-&amp;-Pa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Color co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3 column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Cornell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Interactive Note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5"/>
          <p:cNvSpPr/>
          <p:nvPr/>
        </p:nvSpPr>
        <p:spPr>
          <a:xfrm>
            <a:off x="838080" y="2286000"/>
            <a:ext cx="3505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Thinking too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Based on the source, purpose and us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itations document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6" descr="Research_graphic"/>
          <p:cNvPicPr/>
          <p:nvPr/>
        </p:nvPicPr>
        <p:blipFill>
          <a:blip r:embed="rId2"/>
          <a:stretch/>
        </p:blipFill>
        <p:spPr>
          <a:xfrm>
            <a:off x="6477120" y="228600"/>
            <a:ext cx="2286000" cy="19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6" dur="10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3" dur="1000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0" dur="1000"/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7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4" dur="10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1" dur="1000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8" dur="1000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5" dur="1000"/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5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5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2" dur="1000"/>
                                        <p:tgtEl>
                                          <p:spTgt spid="5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5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5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9" dur="1000"/>
                                        <p:tgtEl>
                                          <p:spTgt spid="5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APA Format</a:t>
            </a: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304560" y="2362320"/>
            <a:ext cx="8762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Regis site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regis.edu/content/lib/pdf/lib.handouts.APAcitationstyle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The Purdue On-line Writing Lab (OWL)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owl.english.purdue.edu/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Noodletools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http://www.noodletool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on of Citation Machine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http://citationmachine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4" descr="Research_graphic"/>
          <p:cNvPicPr/>
          <p:nvPr/>
        </p:nvPicPr>
        <p:blipFill>
          <a:blip r:embed="rId2"/>
          <a:stretch/>
        </p:blipFill>
        <p:spPr>
          <a:xfrm>
            <a:off x="228600" y="228600"/>
            <a:ext cx="2286000" cy="19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8" dur="100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5" dur="1000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2" dur="1000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9" dur="1000"/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Putting it All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3809520" y="2514600"/>
            <a:ext cx="495324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lide Show / Mov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Web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Graphics and ch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4" descr="Research_graphic"/>
          <p:cNvPicPr/>
          <p:nvPr/>
        </p:nvPicPr>
        <p:blipFill>
          <a:blip r:embed="rId2"/>
          <a:stretch/>
        </p:blipFill>
        <p:spPr>
          <a:xfrm>
            <a:off x="685800" y="2209680"/>
            <a:ext cx="2895480" cy="249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How do you feel about your proje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Grammar, spelling, 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Self 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Peer 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Rubric -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Did project answer the tas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urnitin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</a:rPr>
              <a:t>http://www.turnitin.com/static/index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4" descr="Research_graphic"/>
          <p:cNvPicPr/>
          <p:nvPr/>
        </p:nvPicPr>
        <p:blipFill>
          <a:blip r:embed="rId2"/>
          <a:stretch/>
        </p:blipFill>
        <p:spPr>
          <a:xfrm>
            <a:off x="6400800" y="228600"/>
            <a:ext cx="2590920" cy="223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8" dur="10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5" dur="1000"/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2" dur="1000"/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9" dur="1000"/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5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5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6" dur="1000"/>
                                        <p:tgtEl>
                                          <p:spTgt spid="5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5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5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3" dur="1000"/>
                                        <p:tgtEl>
                                          <p:spTgt spid="5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Social Responsi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2000"/>
          </a:bodyPr>
          <a:p>
            <a:pPr marL="144000" indent="-144000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Did you respect intellectual proper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indent="-144000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Do you have a bibliography with diverse sourc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indent="-144000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Did you use in-text citations when paraphras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indent="-144000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Did you collaborate effectively with oth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indent="-1440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Copyright Law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</a:rPr>
              <a:t>http://www.benedict.com/Info/Info.asp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indent="-1440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Netiquette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</a:rPr>
              <a:t>http://www.albion.com/netiquette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4" descr="Research_graphic"/>
          <p:cNvPicPr/>
          <p:nvPr/>
        </p:nvPicPr>
        <p:blipFill>
          <a:blip r:embed="rId2"/>
          <a:stretch/>
        </p:blipFill>
        <p:spPr>
          <a:xfrm>
            <a:off x="6705720" y="4800600"/>
            <a:ext cx="220968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ning, A. B. (2006, October 16). An Introduction:Big6 Information Problem Solving with Technology. I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he Big6 Overvie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Retrieved March 13, 2007, from Big6 Associates Web site: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http://www.big6.com/showarticle.php?id=1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hen, L. (2007, February 7). Checklist of Internet Research Tips. I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nternet Tutorial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Retrieved March 15, 2007, from University at Albany, SUNY Web site: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http://www.internettutorials.net/checklist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hen, L. (2007, March 9). Search Engines. I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nternet Tutorial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Retrieved March 15, 2007, from University at Albany, SUNY Web site: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http://www.internettutorials.net/engine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isenberg, M., &amp; Berkowitz, B. (2007, March 12).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he Big 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Retrieved March 13, 2007, from Big6 Associates Web site: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http://big6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odletools. (2004, July 7). (APA) How do I write an APA parenthetical (in-text) reference? [Knowledge Base: Article 52]. Message posted to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http://www.noodletools.com/kb/index.php?article=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Consider th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3"/>
          <p:cNvSpPr/>
          <p:nvPr/>
        </p:nvSpPr>
        <p:spPr>
          <a:xfrm>
            <a:off x="609480" y="1905120"/>
            <a:ext cx="815364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arch Engine Results: 2,690,000 h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could examine each site in 5 minutes, in order to complete this research (without stopping for food or rest) it would take y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24,167    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or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9,343   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or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1,334    we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or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25.6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alculated by Fr. Don Highberger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gis University For Professional Studies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ommunications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40"/>
                </a:solidFill>
                <a:latin typeface="Arial Rounded MT Bold"/>
              </a:rPr>
              <a:t>Information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4000" spc="-1" strike="noStrike">
                <a:solidFill>
                  <a:srgbClr val="800040"/>
                </a:solidFill>
                <a:latin typeface="Arial Rounded MT Bold"/>
              </a:rPr>
              <a:t>Grow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Information stored on paper, film, optical, and magnetic  media totals about 5 EB of new information each year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New information communicated through electronic information flows - telephone, radio, TV, and the Internet is about 17.7 EB each year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Volume of information on the public Web at 20 to 50 TB in 2002, ... In 2003 - 167 TB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 Rounded MT Bold"/>
                <a:hlinkClick r:id="rId2"/>
              </a:rPr>
              <a:t>http://www2.sims.berkeley.edu/research/projects/how-much-info-2003/execsum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6">
            <a:hlinkClick r:id="rId3" action="ppaction://hlinksldjump"/>
          </p:cNvPr>
          <p:cNvSpPr/>
          <p:nvPr/>
        </p:nvSpPr>
        <p:spPr>
          <a:xfrm>
            <a:off x="7924680" y="6553080"/>
            <a:ext cx="1219320" cy="304920"/>
          </a:xfrm>
          <a:custGeom>
            <a:avLst/>
            <a:gdLst>
              <a:gd name="textAreaLeft" fmla="*/ 19440 w 1219320"/>
              <a:gd name="textAreaRight" fmla="*/ 1199880 w 12193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86298" h="21600">
                <a:moveTo>
                  <a:pt x="0" y="0"/>
                </a:moveTo>
                <a:lnTo>
                  <a:pt x="86298" y="0"/>
                </a:lnTo>
                <a:lnTo>
                  <a:pt x="86298" y="21600"/>
                </a:lnTo>
                <a:lnTo>
                  <a:pt x="0" y="21600"/>
                </a:lnTo>
                <a:close/>
              </a:path>
              <a:path fill="lightenLess" w="86298" h="21600">
                <a:moveTo>
                  <a:pt x="0" y="0"/>
                </a:moveTo>
                <a:lnTo>
                  <a:pt x="86298" y="0"/>
                </a:lnTo>
                <a:lnTo>
                  <a:pt x="84898" y="1400"/>
                </a:lnTo>
                <a:lnTo>
                  <a:pt x="1400" y="1400"/>
                </a:lnTo>
                <a:close/>
              </a:path>
              <a:path fill="darken" w="86298" h="21600">
                <a:moveTo>
                  <a:pt x="86298" y="0"/>
                </a:moveTo>
                <a:lnTo>
                  <a:pt x="86298" y="21600"/>
                </a:lnTo>
                <a:lnTo>
                  <a:pt x="84898" y="20200"/>
                </a:lnTo>
                <a:lnTo>
                  <a:pt x="84898" y="1400"/>
                </a:lnTo>
                <a:close/>
              </a:path>
              <a:path fill="darkenLess" w="86298" h="21600">
                <a:moveTo>
                  <a:pt x="862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98" y="20200"/>
                </a:lnTo>
                <a:close/>
              </a:path>
              <a:path fill="lighten" w="862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7">
            <a:hlinkClick r:id="rId4" action="ppaction://hlinksldjump"/>
          </p:cNvPr>
          <p:cNvSpPr/>
          <p:nvPr/>
        </p:nvSpPr>
        <p:spPr>
          <a:xfrm>
            <a:off x="0" y="6553080"/>
            <a:ext cx="1219320" cy="304920"/>
          </a:xfrm>
          <a:custGeom>
            <a:avLst/>
            <a:gdLst>
              <a:gd name="textAreaLeft" fmla="*/ 19440 w 1219320"/>
              <a:gd name="textAreaRight" fmla="*/ 1199880 w 12193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86298" h="21600">
                <a:moveTo>
                  <a:pt x="0" y="0"/>
                </a:moveTo>
                <a:lnTo>
                  <a:pt x="86298" y="0"/>
                </a:lnTo>
                <a:lnTo>
                  <a:pt x="86298" y="21600"/>
                </a:lnTo>
                <a:lnTo>
                  <a:pt x="0" y="21600"/>
                </a:lnTo>
                <a:close/>
              </a:path>
              <a:path fill="lightenLess" w="86298" h="21600">
                <a:moveTo>
                  <a:pt x="0" y="0"/>
                </a:moveTo>
                <a:lnTo>
                  <a:pt x="86298" y="0"/>
                </a:lnTo>
                <a:lnTo>
                  <a:pt x="84898" y="1400"/>
                </a:lnTo>
                <a:lnTo>
                  <a:pt x="1400" y="1400"/>
                </a:lnTo>
                <a:close/>
              </a:path>
              <a:path fill="darken" w="86298" h="21600">
                <a:moveTo>
                  <a:pt x="86298" y="0"/>
                </a:moveTo>
                <a:lnTo>
                  <a:pt x="86298" y="21600"/>
                </a:lnTo>
                <a:lnTo>
                  <a:pt x="84898" y="20200"/>
                </a:lnTo>
                <a:lnTo>
                  <a:pt x="84898" y="1400"/>
                </a:lnTo>
                <a:close/>
              </a:path>
              <a:path fill="darkenLess" w="86298" h="21600">
                <a:moveTo>
                  <a:pt x="862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98" y="20200"/>
                </a:lnTo>
                <a:close/>
              </a:path>
              <a:path fill="lighten" w="862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4" descr="HowBig"/>
          <p:cNvPicPr/>
          <p:nvPr/>
        </p:nvPicPr>
        <p:blipFill>
          <a:blip r:embed="rId2"/>
          <a:stretch/>
        </p:blipFill>
        <p:spPr>
          <a:xfrm>
            <a:off x="-2286000" y="-1371600"/>
            <a:ext cx="14046120" cy="10642680"/>
          </a:xfrm>
          <a:prstGeom prst="rect">
            <a:avLst/>
          </a:prstGeom>
          <a:ln w="0">
            <a:noFill/>
          </a:ln>
        </p:spPr>
      </p:pic>
      <p:sp>
        <p:nvSpPr>
          <p:cNvPr id="515" name="AutoShape 5">
            <a:hlinkClick r:id="" action="ppaction://hlinkshowjump?jump=previousslide"/>
          </p:cNvPr>
          <p:cNvSpPr/>
          <p:nvPr/>
        </p:nvSpPr>
        <p:spPr>
          <a:xfrm>
            <a:off x="8077320" y="6477120"/>
            <a:ext cx="1066680" cy="380880"/>
          </a:xfrm>
          <a:custGeom>
            <a:avLst/>
            <a:gdLst>
              <a:gd name="textAreaLeft" fmla="*/ 24480 w 1066680"/>
              <a:gd name="textAreaRight" fmla="*/ 1042200 w 10666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0456" h="21600">
                <a:moveTo>
                  <a:pt x="0" y="0"/>
                </a:moveTo>
                <a:lnTo>
                  <a:pt x="60456" y="0"/>
                </a:lnTo>
                <a:lnTo>
                  <a:pt x="60456" y="21600"/>
                </a:lnTo>
                <a:lnTo>
                  <a:pt x="0" y="21600"/>
                </a:lnTo>
                <a:close/>
              </a:path>
              <a:path fill="lightenLess" w="60456" h="21600">
                <a:moveTo>
                  <a:pt x="0" y="0"/>
                </a:moveTo>
                <a:lnTo>
                  <a:pt x="60456" y="0"/>
                </a:lnTo>
                <a:lnTo>
                  <a:pt x="59056" y="1400"/>
                </a:lnTo>
                <a:lnTo>
                  <a:pt x="1400" y="1400"/>
                </a:lnTo>
                <a:close/>
              </a:path>
              <a:path fill="darken" w="60456" h="21600">
                <a:moveTo>
                  <a:pt x="60456" y="0"/>
                </a:moveTo>
                <a:lnTo>
                  <a:pt x="60456" y="21600"/>
                </a:lnTo>
                <a:lnTo>
                  <a:pt x="59056" y="20200"/>
                </a:lnTo>
                <a:lnTo>
                  <a:pt x="59056" y="1400"/>
                </a:lnTo>
                <a:close/>
              </a:path>
              <a:path fill="darkenLess" w="60456" h="21600">
                <a:moveTo>
                  <a:pt x="604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6" y="20200"/>
                </a:lnTo>
                <a:close/>
              </a:path>
              <a:path fill="lighten" w="604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Search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219320" y="2514240"/>
            <a:ext cx="396216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Regis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I-Search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e Big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4" descr="Research_graphic"/>
          <p:cNvPicPr/>
          <p:nvPr/>
        </p:nvPicPr>
        <p:blipFill>
          <a:blip r:embed="rId2"/>
          <a:stretch/>
        </p:blipFill>
        <p:spPr>
          <a:xfrm>
            <a:off x="5257800" y="2362320"/>
            <a:ext cx="2933640" cy="252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Regis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Getting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Effective search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nding books and other i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nding periodical arti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ritically evaluating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4" descr="Research_graphic"/>
          <p:cNvPicPr/>
          <p:nvPr/>
        </p:nvPicPr>
        <p:blipFill>
          <a:blip r:embed="rId2"/>
          <a:stretch/>
        </p:blipFill>
        <p:spPr>
          <a:xfrm>
            <a:off x="7010280" y="304920"/>
            <a:ext cx="1866960" cy="160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I-Search Model</a:t>
            </a: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(Ken Macrori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Inquiry-based research process to actively involve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4 ph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Immersion in a topic and generating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Developing a search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Gathering &amp; integrating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Present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4" descr="Research_graphic"/>
          <p:cNvPicPr/>
          <p:nvPr/>
        </p:nvPicPr>
        <p:blipFill>
          <a:blip r:embed="rId2"/>
          <a:stretch/>
        </p:blipFill>
        <p:spPr>
          <a:xfrm>
            <a:off x="7010280" y="228600"/>
            <a:ext cx="1866960" cy="160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10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The Big 6</a:t>
            </a: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(Mike Eisenberg &amp; Bob Berkowitz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6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ask Defini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Information Seek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Location &amp;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Use of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Syn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Not necessary to complete these steps in linear or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1028" descr="Research_graphic"/>
          <p:cNvPicPr/>
          <p:nvPr/>
        </p:nvPicPr>
        <p:blipFill>
          <a:blip r:embed="rId2"/>
          <a:stretch/>
        </p:blipFill>
        <p:spPr>
          <a:xfrm>
            <a:off x="6934320" y="304920"/>
            <a:ext cx="2019240" cy="173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1000"/>
                                        <p:tgtEl>
                                          <p:spTgt spid="5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" dur="1000"/>
                                        <p:tgtEl>
                                          <p:spTgt spid="5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2T00:32:10Z</dcterms:created>
  <dc:creator>B Rogers</dc:creator>
  <dc:description/>
  <dc:language>en-US</dc:language>
  <cp:lastModifiedBy>B Rogers</cp:lastModifiedBy>
  <cp:lastPrinted>2008-05-02T16:11:16Z</cp:lastPrinted>
  <dcterms:modified xsi:type="dcterms:W3CDTF">2010-01-16T15:16:45Z</dcterms:modified>
  <cp:revision>35</cp:revision>
  <dc:subject/>
  <dc:title>Effective Research</dc:title>
</cp:coreProperties>
</file>