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C167-D580-4027-88C7-34D8D3D27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585-0F3E-4AFC-BA6F-6F1113A5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40B4-86E8-45B5-B63B-AA491FFB3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BDC2-0985-4629-A1A5-ACCD888D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2BE-7824-4645-A8FB-4B5AFB88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2F0E-38E7-4F6E-8DB1-C4CFA7B3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520-3343-4DA2-8D99-F63143AA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073-7DB6-4EF1-AEA8-F445573C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CD9C-4134-4A36-A99F-2582CDB55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B076-9984-438B-AD04-331770AB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B2F8-2232-4ECB-8220-EF831478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08F6-D9DC-4146-9EE6-8B0E49CB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5F36-4DF8-4EA7-8A84-7AD612A4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E030-93D7-476C-9AD6-F9F84D24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086-E832-40F3-B2E3-9F73C558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FCDE-6140-495E-A48B-E4E862502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A427-D983-40E0-8973-7BB8D619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C5A-9C95-4B57-8ACD-F3A04176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DAB-BD75-4D6E-A5B0-970C4735E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6863-914A-4F94-B911-096491FD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07D4-A792-42C8-A790-222BB9599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641C-4E4D-4E03-B32D-DEAF14CB7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6795-ED4A-43C6-8835-FD8382A9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ECA2-7820-4312-95A5-353139B1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844-FA8F-4443-856C-A15730AA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CA2-F735-4E33-9B37-BBA77578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11C4-D33B-4EC4-BF8B-D3CF56A9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796-579A-4AA5-9F3F-BA162FF5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23C-E192-4BB2-95E3-3FBB2C64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7952C-959D-47D5-959E-6B3FB1E0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390A-2A3E-408D-A3C0-F4487735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3BB1E-64FC-4735-8656-6BD9AFAF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50172-E175-4C20-B271-E3AC7A0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5608D-82DE-4D32-8BFF-C78DE584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FA990-E728-4859-B755-B58BB98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5E8F9-7EDF-46D2-98DF-953E3C20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4E9D0-96E5-451F-B02F-0300C639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72985-59E7-47BD-8CBD-0D705355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6315F-389E-4BB2-8BE6-9E96CCF1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04E-8D51-4612-A9AD-68D17EEB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C0256-A55E-43E2-968E-226A9CC5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CBD61-0713-4854-98A8-99945FBB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E2CCA-CDDD-4728-8233-B5F75F8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5D313-C33F-48EC-89B6-5086A03D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0E3E8-8EAA-4D5F-AB2F-6E121B0A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83A16-7619-4B96-8CDC-5F1ABB9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3C26F-DBB5-499E-85B4-108305AA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4AE3D-5D70-4A11-9AD6-3783C7EB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AF17A-5404-43AB-ADAD-D0EC9EBF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19A38-5E14-459A-97F2-6D1DE702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0D9-79F1-42DD-A047-B0B07A74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04188-5BA7-4109-8A09-DDD470B5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CF663-9466-40E4-BBD3-74C0E1B9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10C48-0143-4EBA-8306-37ECBFC7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7E98F-C1C3-48EB-A6BA-CF581DFF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EEFA4-5928-49B3-85F9-4553DA7F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FF383-EFF4-4209-A02B-63CBC1D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58E5F-90BB-4387-9DCF-C5AE28ED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5C109-3EA1-42EF-B926-F5CDA7B2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7DCC-BBF6-4C6E-B104-2C1CC64B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2A255-CA9F-49E3-BAA6-B73CFE9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0E6A-5D91-48ED-97F6-E44151CC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ECF16-1F5D-45B5-8091-2324CC51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6B7B0-CB4D-43E0-BB78-DA3FB395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BA19E-0B5D-4D0B-B3ED-A5295F5E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8B6EC-1B74-4181-997F-CB95F090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35E27-EFA5-43F0-84DB-00D7E8A5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8F4C2-A617-473E-999A-ACB468F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7674D-8E8E-4CF5-A2F5-FEBD2CC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DB58D-8A40-4283-B932-146D27E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53E63-CD65-47FF-9D48-3BE5990E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6A339-1525-46A8-801E-43C22C3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ED1-B12F-4395-A782-BD8FA53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15496-DD9A-42E3-A60D-995697A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88F61-697C-4C10-A864-6E866AF5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5B962-B1A9-4575-956C-2686C530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10CAE-A77D-496E-B935-FBA53E59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6D501-5ED9-4683-B73B-B61812E3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908B-B180-4F82-9EE4-A5C0C1A8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EE4C-0634-4C6F-B7BD-7C0B2D0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268-CEEC-4C7C-99BD-67260185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DAD-629B-439C-AEC1-A596831B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4563-DF78-4741-8258-C87684F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145-DA40-4FBA-BCE1-693B315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221-5CC2-4A65-AFDD-F3831EF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165A-7982-45EC-AEAC-779BF5C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9412-68BB-4BC0-8C29-8854CDF9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730D-22D6-4D21-8BF1-E90DDFC6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2057-A9A7-4845-BF7E-E4ADE941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21DD-7230-43ED-9E90-69BE3372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4272-71C0-402A-9778-1694D20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D00C-62C8-48EB-9FFA-35B456EA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80F5-026E-46D4-8E97-2C59863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D4E5-8465-4533-950E-E5D03F49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9EF-D786-4864-B41A-96FE143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7449-9CC8-4452-9532-0E418A2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0690-4C8C-4FC6-984B-F543A52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DEA6-B549-4516-B636-609F209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998C-0A1E-45BC-A220-3EB15B1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F96B-C69C-4AA4-ABDE-8DADD554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ADFB-4F5E-4A9B-9D38-DD7BDB6F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F49D-C89D-416C-9221-8DE23C07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D5AD-5F6F-42E1-9B12-207D0702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89FD-2233-4041-80EA-A27DA093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8F33-7C71-474C-9462-34BC0FEC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414-2807-405F-A8E2-0B35C140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DEBF-80B4-48E9-93DF-D0B1BA5F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2C4A-42AB-4ED5-8EFD-FBA612A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FB48D-C920-4F92-9A05-2FC3F930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CB5D-01F8-46F1-B307-3B41B02A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B2C4-FDCB-4D6A-85F5-3B5F65B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3362-9308-4AA9-A509-FCA63A9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422A-F640-4EF9-B586-58AAF32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4ADB-7644-447D-B612-95D3DB6D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0546-4F82-44DC-A258-347EE492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68E0-79F3-491E-AD26-884686EB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CEB-1C7A-4849-A2E7-0BB1AC26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AF54-0750-4650-A787-171D476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3EBD-4CD4-40AE-8F54-B4F120E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A5AB-8271-405F-8AE7-73F0A65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B510-6131-4CBF-A2F8-6863612B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902A-7C18-46F6-9966-0C50C663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F702-4C0F-40B8-8D23-E45AE6E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0C95-9BA6-4167-87F6-B418E53A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A0D3F-893D-4F0A-8D8C-F463B3C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81F3-7A5C-4568-9856-4D4AAD78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EAB0F-D349-4E6E-96B8-4DFFB015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22C-6692-44C6-84AC-B786B2B1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9F9E-8BF2-4C74-BF96-2F8CFB67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95CF-7BAD-4877-8207-3D4BA7C4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727AD-68E0-41B4-BB11-BE6265A5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B18C-CE07-4B60-BF33-7FE391D7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DFEA6-53EA-4498-8B5A-7B51909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9C8F-DCBD-45EC-BF66-5BD843EB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5475-E8D2-4CFF-9251-D3DB619E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96264-0882-4D49-94E4-DC1AEB34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68F7E-1365-4C27-8D8F-C4A6BBCE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A4E5-EEA9-41B8-8E9F-CAA78912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CD6-4A36-4F69-B397-F13315B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FAD1-7148-48A9-807B-8DBEAD9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3BF38-6566-4D04-A374-16A86894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1EACE-FBD2-4320-AC6C-8C0AFFCD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3E3B-D3AB-4DEB-8E04-C0A95FE6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21920-34E4-4760-952A-D005E879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9064-F068-4E17-A8AB-E720C621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BC9D-14A3-45CF-9F5F-46CD17BF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3DAC-BD11-4C87-9750-6592A864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8E1C9-A190-4780-AA76-257907B8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44C0-9510-454D-B787-D0154C7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4F2-2FCB-40F8-B6EE-38DA1409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F695A-5081-4AC6-B2AE-F696726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EDF16-58F5-4CC6-A29C-CADCF68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5231-01EE-4483-B721-1637DFEF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6F10-4867-467E-A4AD-2C8EAECD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8CCE3-7C2E-464A-8A4A-319B9C56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CD39-32FA-45BC-AC45-3F0A3459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FE36E-9D8D-44DD-8295-EAE30D7E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FB0B-75AC-4AE3-9E7A-49C170F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BC84-2E29-49E8-9890-376B0CC9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46DB4-5F27-4110-AC15-0E4AC858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B27-5159-48CD-B43D-1B32842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B1D2-3F91-404D-8898-7875730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8D9FB-D8C0-4887-9678-3171D70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AD468-D886-4543-8E2A-CCC9C03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E1CBF-FEF7-45DD-8329-584ADE3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359A3-36B4-4FA7-8F5A-219800D4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C9F0-9FD8-43F1-AD2E-B053BCF4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FC8FE-80EC-4CA3-8605-52AE8406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A6BDD-AB32-471F-A7B7-1AE36384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EC377-5FFB-47D6-ABD1-D7790294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503BC-52F9-4690-A8F3-8BEACE6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4577-7FD2-42F9-89DB-659B96118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E928-B329-4182-B3B3-7F19F0A95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877-21A2-4334-9466-8B1B757C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A999-5F29-4472-9971-B2EDF78C3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C839-5D33-4F98-B3EA-E3BA4D64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76F8-5A8B-4F88-8F2B-C95B79FD4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3BE1-6F38-442B-9C77-486D0301C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C4E4-AE5B-4CE4-8750-1D6C168F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3334-B955-40EF-970F-29AEE33A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07BB-57BD-4472-9916-C08C7C982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FBA-828E-4362-B4F4-1CCF1A87A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07D-CCC1-4A49-856F-1969221B5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infomine.ucr.edu/" TargetMode="External"/><Relationship Id="rId4" Type="http://schemas.openxmlformats.org/officeDocument/2006/relationships/hyperlink" Target="http://www.academicinfo.us/" TargetMode="External"/><Relationship Id="rId5" Type="http://schemas.openxmlformats.org/officeDocument/2006/relationships/hyperlink" Target="http://dir.yahoo.com/" TargetMode="External"/><Relationship Id="rId6" Type="http://schemas.openxmlformats.org/officeDocument/2006/relationships/hyperlink" Target="http://directory.google.com/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archive.org/web/20041012180151/pubweb.northwestern.edu/~abutz/di/intro.html" TargetMode="External"/><Relationship Id="rId3" Type="http://schemas.openxmlformats.org/officeDocument/2006/relationships/hyperlink" Target="http://www.seas.upenn.edu/~udani/personals.html" TargetMode="External"/><Relationship Id="rId4" Type="http://schemas.openxmlformats.org/officeDocument/2006/relationships/hyperlink" Target="http://pages.yahoo.com/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egis.edu/library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hyperlink" Target="http://www.clusty.com/" TargetMode="External"/><Relationship Id="rId5" Type="http://schemas.openxmlformats.org/officeDocument/2006/relationships/hyperlink" Target="http://ask.com/" TargetMode="External"/><Relationship Id="rId6" Type="http://schemas.openxmlformats.org/officeDocument/2006/relationships/hyperlink" Target="http://search.yahoo.com/" TargetMode="External"/><Relationship Id="rId7" Type="http://schemas.openxmlformats.org/officeDocument/2006/relationships/hyperlink" Target="http://prospector.coalliance.org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tutorials.net/started.html" TargetMode="External"/><Relationship Id="rId3" Type="http://schemas.openxmlformats.org/officeDocument/2006/relationships/hyperlink" Target="http://www.cyward.com/speciali.htm" TargetMode="External"/><Relationship Id="rId4" Type="http://schemas.openxmlformats.org/officeDocument/2006/relationships/hyperlink" Target="http://webquest.sdsu.edu/searching/specialize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whois.com/" TargetMode="External"/><Relationship Id="rId3" Type="http://schemas.openxmlformats.org/officeDocument/2006/relationships/hyperlink" Target="http://www.martinlutherking.org/" TargetMode="External"/><Relationship Id="rId4" Type="http://schemas.openxmlformats.org/officeDocument/2006/relationships/hyperlink" Target="http://www.harrypotter.com/" TargetMode="External"/><Relationship Id="rId5" Type="http://schemas.openxmlformats.org/officeDocument/2006/relationships/hyperlink" Target="http://www.globalwarming.org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hive.org/web/web.ph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ims.berkeley.edu/research/projects/how-much-info-2003/execsum.htm" TargetMode="Externa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54104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40"/>
                </a:solidFill>
                <a:latin typeface="Arial Rounded MT Bold"/>
              </a:rPr>
              <a:t>Effective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Research_graphic"/>
          <p:cNvPicPr/>
          <p:nvPr/>
        </p:nvPicPr>
        <p:blipFill>
          <a:blip r:embed="rId2"/>
          <a:stretch/>
        </p:blipFill>
        <p:spPr>
          <a:xfrm>
            <a:off x="411480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ask /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questions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know alrea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do you need to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hat type of information is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Research_graphic"/>
          <p:cNvPicPr/>
          <p:nvPr/>
        </p:nvPicPr>
        <p:blipFill>
          <a:blip r:embed="rId2"/>
          <a:stretch/>
        </p:blipFill>
        <p:spPr>
          <a:xfrm>
            <a:off x="0" y="228600"/>
            <a:ext cx="243828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dentify keywords &amp;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uns &amp; 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 – 6 words fo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e View option in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advanc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Using + o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04920"/>
            <a:ext cx="182880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ubject Directories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ibrarians’ Index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li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mine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fomine.ucr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cademic Inf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academicinfo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dir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Directo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directory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Research_graphic"/>
          <p:cNvPicPr/>
          <p:nvPr/>
        </p:nvPicPr>
        <p:blipFill>
          <a:blip r:embed="rId7"/>
          <a:stretch/>
        </p:blipFill>
        <p:spPr>
          <a:xfrm>
            <a:off x="152280" y="380880"/>
            <a:ext cx="1676520" cy="14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6196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Locating and Access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Locate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nd the information within th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valuate the accuracy of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533520"/>
            <a:ext cx="236232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edu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ducational organization (most US univers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k12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S school site (not all US schools us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ac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cademic institution (outside of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sc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chool site (outside of the 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mpany (usually .co in the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org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y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gov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overnment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ne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mil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ilitary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extensions to look for are .biz, .name, .pro, .info. All are used for commercial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search_graphic"/>
          <p:cNvPicPr/>
          <p:nvPr/>
        </p:nvPicPr>
        <p:blipFill>
          <a:blip r:embed="rId2"/>
          <a:stretch/>
        </p:blipFill>
        <p:spPr>
          <a:xfrm>
            <a:off x="457200" y="380880"/>
            <a:ext cx="1790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ersonal sites (~)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pubweb.northwestern.edu/~abutz/di/intro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is site is a Holocaust Revisionist site that argues that the Holocaust did not take place.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eas.upenn.edu/~udani/personal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ntains links to free personal/singles 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eocitie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pages.yahoo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28" descr="Research_graphic"/>
          <p:cNvPicPr/>
          <p:nvPr/>
        </p:nvPicPr>
        <p:blipFill>
          <a:blip r:embed="rId5"/>
          <a:stretch/>
        </p:blipFill>
        <p:spPr>
          <a:xfrm>
            <a:off x="6819840" y="4856040"/>
            <a:ext cx="2324160" cy="20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On-line Library &amp; Databa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6553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regis.edu/libra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Research_graphic"/>
          <p:cNvPicPr/>
          <p:nvPr/>
        </p:nvPicPr>
        <p:blipFill>
          <a:blip r:embed="rId3"/>
          <a:stretch/>
        </p:blipFill>
        <p:spPr>
          <a:xfrm>
            <a:off x="5943600" y="4087800"/>
            <a:ext cx="293364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Other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oogle Sch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scholar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lus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clus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as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Yahoo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search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arch Prosp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://prospector.coalli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Research_graphic"/>
          <p:cNvPicPr/>
          <p:nvPr/>
        </p:nvPicPr>
        <p:blipFill>
          <a:blip r:embed="rId8"/>
          <a:stretch/>
        </p:blipFill>
        <p:spPr>
          <a:xfrm>
            <a:off x="7162920" y="5181480"/>
            <a:ext cx="171432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till Not S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Tutori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nternettutorials.net/start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ward Internet Education: Search Engines &amp; Specialize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cyward.com/speciali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ized Search Engines &amp; Direc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ebquest.sdsu.edu/searching/specialize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Research_graphic"/>
          <p:cNvPicPr/>
          <p:nvPr/>
        </p:nvPicPr>
        <p:blipFill>
          <a:blip r:embed="rId5"/>
          <a:stretch/>
        </p:blipFill>
        <p:spPr>
          <a:xfrm>
            <a:off x="6781680" y="762120"/>
            <a:ext cx="201960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o owns the site?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easywhoi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martinlutherk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torm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harrypot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globalwarm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ational Consumer 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Research_graphic"/>
          <p:cNvPicPr/>
          <p:nvPr/>
        </p:nvPicPr>
        <p:blipFill>
          <a:blip r:embed="rId6"/>
          <a:stretch/>
        </p:blipFill>
        <p:spPr>
          <a:xfrm>
            <a:off x="6172200" y="304920"/>
            <a:ext cx="266688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nternet is becoming #1 source f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ailable information growing exponent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teach students how to research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eed to be able to determine qualit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Research_graphic"/>
          <p:cNvPicPr/>
          <p:nvPr/>
        </p:nvPicPr>
        <p:blipFill>
          <a:blip r:embed="rId2"/>
          <a:stretch/>
        </p:blipFill>
        <p:spPr>
          <a:xfrm>
            <a:off x="152280" y="380880"/>
            <a:ext cx="1486080" cy="127980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6">
            <a:hlinkClick r:id="rId3" action="ppaction://hlinksldjump"/>
          </p:cNvPr>
          <p:cNvSpPr/>
          <p:nvPr/>
        </p:nvSpPr>
        <p:spPr>
          <a:xfrm>
            <a:off x="914400" y="3124080"/>
            <a:ext cx="5486400" cy="914400"/>
          </a:xfrm>
          <a:custGeom>
            <a:avLst/>
            <a:gdLst>
              <a:gd name="textAreaLeft" fmla="*/ 59040 w 5486400"/>
              <a:gd name="textAreaRight" fmla="*/ 5427360 w 5486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9557" h="21600">
                <a:moveTo>
                  <a:pt x="0" y="0"/>
                </a:moveTo>
                <a:lnTo>
                  <a:pt x="129557" y="0"/>
                </a:lnTo>
                <a:lnTo>
                  <a:pt x="129557" y="21600"/>
                </a:lnTo>
                <a:lnTo>
                  <a:pt x="0" y="21600"/>
                </a:lnTo>
                <a:close/>
              </a:path>
              <a:path fill="lightenLess" w="129557" h="21600">
                <a:moveTo>
                  <a:pt x="0" y="0"/>
                </a:moveTo>
                <a:lnTo>
                  <a:pt x="129557" y="0"/>
                </a:lnTo>
                <a:lnTo>
                  <a:pt x="128158" y="1400"/>
                </a:lnTo>
                <a:lnTo>
                  <a:pt x="1400" y="1400"/>
                </a:lnTo>
                <a:close/>
              </a:path>
              <a:path fill="darken" w="129557" h="21600">
                <a:moveTo>
                  <a:pt x="129557" y="0"/>
                </a:moveTo>
                <a:lnTo>
                  <a:pt x="129557" y="21600"/>
                </a:lnTo>
                <a:lnTo>
                  <a:pt x="128158" y="20200"/>
                </a:lnTo>
                <a:lnTo>
                  <a:pt x="128158" y="1400"/>
                </a:lnTo>
                <a:close/>
              </a:path>
              <a:path fill="darkenLess" w="129557" h="21600">
                <a:moveTo>
                  <a:pt x="129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58" y="20200"/>
                </a:lnTo>
                <a:close/>
              </a:path>
              <a:path fill="lighten" w="129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7">
            <a:hlinkClick r:id="rId4" action="ppaction://hlinksldjump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History of a Site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archive.org/web/web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esearch_graphic"/>
          <p:cNvPicPr/>
          <p:nvPr/>
        </p:nvPicPr>
        <p:blipFill>
          <a:blip r:embed="rId3"/>
          <a:stretch/>
        </p:blipFill>
        <p:spPr>
          <a:xfrm>
            <a:off x="6095880" y="4114800"/>
            <a:ext cx="278136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Using the Information</a:t>
            </a:r>
            <a:br>
              <a:rPr sz="4400"/>
            </a:b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(note tak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57440" y="2514600"/>
            <a:ext cx="2971800" cy="3733920"/>
          </a:xfrm>
          <a:prstGeom prst="rect">
            <a:avLst/>
          </a:prstGeom>
          <a:noFill/>
          <a:ln w="57240">
            <a:solidFill>
              <a:srgbClr val="80004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te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t-&amp;-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lor co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 colum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rnel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active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838080" y="228600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king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sed on the source, purpose and 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itations document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search_graphic"/>
          <p:cNvPicPr/>
          <p:nvPr/>
        </p:nvPicPr>
        <p:blipFill>
          <a:blip r:embed="rId2"/>
          <a:stretch/>
        </p:blipFill>
        <p:spPr>
          <a:xfrm>
            <a:off x="647712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APA Format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76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gis sit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regis.edu/content/lib/pdf/lib.handouts.APAcitationsty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Purdue On-line Writing Lab (OWL)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wl.english.purdue.edu/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oodletools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on of Citation Machine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citationmachine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Research_graphic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9520" y="251460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lide Show /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Graphics a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Research_graphic"/>
          <p:cNvPicPr/>
          <p:nvPr/>
        </p:nvPicPr>
        <p:blipFill>
          <a:blip r:embed="rId2"/>
          <a:stretch/>
        </p:blipFill>
        <p:spPr>
          <a:xfrm>
            <a:off x="685800" y="220968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How do you feel about your pro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mmar, spelling,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lf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e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ubric -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d project answer the ta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urnit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turnitin.com/static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Research_graphic"/>
          <p:cNvPicPr/>
          <p:nvPr/>
        </p:nvPicPr>
        <p:blipFill>
          <a:blip r:embed="rId2"/>
          <a:stretch/>
        </p:blipFill>
        <p:spPr>
          <a:xfrm>
            <a:off x="6400800" y="22860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respect intellectu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o you have a bibliography with diverse 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use in-text citations when paraphr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d you collaborate effectively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pyright La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enedict.com/Info/Info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tiquet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albion.com/netiquet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esearch_graphic"/>
          <p:cNvPicPr/>
          <p:nvPr/>
        </p:nvPicPr>
        <p:blipFill>
          <a:blip r:embed="rId2"/>
          <a:stretch/>
        </p:blipFill>
        <p:spPr>
          <a:xfrm>
            <a:off x="6705720" y="480060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ning, A. B. (2006, October 16). An Introduction:Big6 Information Problem Solving with Technology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6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ig6.com/showarticle.php?id=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February 7). Checklist of Internet Research Tip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checklis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hen, L. (2007, March 9). Search Engines.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net Tutor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5, 2007, from University at Albany, SUNY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ternettutorials.net/engin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senberg, M., &amp; Berkowitz, B. (2007, March 12)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Big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Retrieved March 13, 2007, from Big6 Associates Web site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big6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odletools. (2004, July 7). (APA) How do I write an APA parenthetical (in-text) reference? [Knowledge Base: Article 52]. Message posted to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oodletools.com/kb/index.php?article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Consider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609480" y="1905120"/>
            <a:ext cx="8153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 Results: 2,690,000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ould examine each site in 5 minutes, in order to complete this research (without stopping for food or rest) it would take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4,167   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,343   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,334  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25.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lculated by Fr. Don Highber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is University For Professional Stud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cations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Informa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000" spc="-1" strike="noStrike">
                <a:solidFill>
                  <a:srgbClr val="800040"/>
                </a:solidFill>
                <a:latin typeface="Arial Rounded MT Bold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nformation stored on paper, film, optical, and magnetic  media totals about 5 EB of new information each ye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information communicated through electronic information flows - telephone, radio, TV, and the Internet is about 17.7 EB each y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Volume of information on the public Web at 20 to 50 TB in 2002, ... In 2003 - 167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http://www2.sims.berkeley.edu/research/projects/how-much-info-2003/execsu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>
            <a:hlinkClick r:id="rId3" action="ppaction://hlinksldjump"/>
          </p:cNvPr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7">
            <a:hlinkClick r:id="rId4" action="ppaction://hlinksldjump"/>
          </p:cNvPr>
          <p:cNvSpPr/>
          <p:nvPr/>
        </p:nvSpPr>
        <p:spPr>
          <a:xfrm>
            <a:off x="0" y="6553080"/>
            <a:ext cx="1219320" cy="30492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HowBig"/>
          <p:cNvPicPr/>
          <p:nvPr/>
        </p:nvPicPr>
        <p:blipFill>
          <a:blip r:embed="rId2"/>
          <a:stretch/>
        </p:blipFill>
        <p:spPr>
          <a:xfrm>
            <a:off x="-2286000" y="-1371600"/>
            <a:ext cx="14046120" cy="106426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>
            <a:hlinkClick r:id="" action="ppaction://hlinkshowjump?jump=previousslide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Search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3962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egi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-Searc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Big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Research_graphic"/>
          <p:cNvPicPr/>
          <p:nvPr/>
        </p:nvPicPr>
        <p:blipFill>
          <a:blip r:embed="rId2"/>
          <a:stretch/>
        </p:blipFill>
        <p:spPr>
          <a:xfrm>
            <a:off x="5257800" y="2362320"/>
            <a:ext cx="293364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Regis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Effective search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books and oth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nding period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ritically evaluat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304920"/>
            <a:ext cx="18669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I-Search Model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Ken Macro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quiry-based research process to actively invol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mersion in a topic and 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veloping a 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athering &amp; integra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Research_graphic"/>
          <p:cNvPicPr/>
          <p:nvPr/>
        </p:nvPicPr>
        <p:blipFill>
          <a:blip r:embed="rId2"/>
          <a:stretch/>
        </p:blipFill>
        <p:spPr>
          <a:xfrm>
            <a:off x="7010280" y="228600"/>
            <a:ext cx="1866960" cy="16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40"/>
                </a:solidFill>
                <a:latin typeface="Arial Rounded MT Bold"/>
              </a:rPr>
              <a:t>The Big 6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(Mike Eisenberg &amp; Bob Ber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6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ask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ormation Seek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ocation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e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t necessary to complete these steps in linear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28" descr="Research_graphic"/>
          <p:cNvPicPr/>
          <p:nvPr/>
        </p:nvPicPr>
        <p:blipFill>
          <a:blip r:embed="rId2"/>
          <a:stretch/>
        </p:blipFill>
        <p:spPr>
          <a:xfrm>
            <a:off x="6934320" y="304920"/>
            <a:ext cx="20192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0:32:10Z</dcterms:created>
  <dc:creator>B Rogers</dc:creator>
  <dc:description/>
  <dc:language>en-US</dc:language>
  <cp:lastModifiedBy>B Rogers</cp:lastModifiedBy>
  <cp:lastPrinted>2008-05-02T16:11:16Z</cp:lastPrinted>
  <dcterms:modified xsi:type="dcterms:W3CDTF">2010-01-16T15:16:45Z</dcterms:modified>
  <cp:revision>35</cp:revision>
  <dc:subject/>
  <dc:title>Effective Research</dc:title>
</cp:coreProperties>
</file>